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38AE1-FEFE-4DD0-AB3F-BD45ED95C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2A3EB-2AE2-4999-A68F-69C942F80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7B3F7-765A-44C6-8CD3-6E8078068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A76B9-BD65-4881-B36E-2AE0DFAC7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462AE-9D35-4A83-B3CF-4C7E27A57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B8540-E3D9-4E5E-B46F-EED2F1885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0CFC0-5E97-49FF-A045-CD836CDC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2A3CA-5080-45A4-A0FB-6A6BAC5F4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31B0A-822F-4284-932C-25F4FC5A9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B6694-B644-48B4-8E04-C64AC568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23C9F-1C24-4BF9-8A55-E0946E6CC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3A1A-CD96-44BF-9F48-5E9C2F62A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0AFCA-7489-4014-881B-38B218653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0A1CF-0E6D-43EA-AE60-4385CCB0E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00613-B0E6-4325-A96E-FC3661246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A1D8B-DD4A-42B9-AEFB-28FC5B2776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F9608-94D2-472A-93A7-00187CB54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FB54-3732-4081-8BFD-05F76C169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58B39-C030-44A1-A261-455BD7C5D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FE0FA-A9D1-4ACD-B6D4-11076BA59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81AE-55CB-47AB-BB9C-809ED322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C9355-3810-45A9-AAD3-180D21C3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919D-541F-4945-B7D9-B1E859D0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9EA42-7382-4AC2-9237-E1C733330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30B3-3FF9-494A-BF2B-95A061772E8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1879-14BB-4EB0-8C38-FC9A5161AB1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ákon o zadávání veřejných zakázek</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70c0"/>
                </a:solidFill>
                <a:latin typeface="Arial"/>
              </a:rPr>
              <a:t>Nový zákon s účinností od 1. 11. 2016</a:t>
            </a:r>
            <a:endParaRPr b="0" lang="en-US" sz="20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dmínky a postupy zadavatelů při zadávání veřejných zakázek</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VI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ybraného dodavatele vyzve zadavatel k předložení originálů dokladů o kvalifikaci dodavatele a dále k předložení identifikačních údajů všech osob, které jsou jeho skutečným majitelem podle zákona o některých opatřeních proti legalizaci výnosů z trestné činnosti a financování terorismu a současně i doklady, z nichž vyplývá vztah všech těchto osob k dodavateli; těmito doklady jsou zejména výpis z obchodního rejstříku nebo jiné obdobné evidence, seznam akcionářů,  rozhodnutí statutárního orgánu o vyplacení podílu na zisku,  společenská smlouva, zakladatelská listina nebo stanovy (tuto podmínku musí mít zadavatel již v ZD). </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Je-li vše dodavatelem splněno, zadavatel rozhodne a oznámí rozhodnutí o výběru nejvhodnější nabídky a může být uzavřena smlouva, není-li splněno musí být vybraný dodavatel vyloučen (je možné mu žádostí zadavatele umožnit doplnění, pokud něco pořádku není).</a:t>
            </a:r>
            <a:endParaRPr b="0" lang="en-US" sz="2000" spc="-1" strike="noStrike">
              <a:solidFill>
                <a:srgbClr val="000000"/>
              </a:solidFill>
              <a:latin typeface="Arial"/>
            </a:endParaRPr>
          </a:p>
        </p:txBody>
      </p:sp>
      <p:pic>
        <p:nvPicPr>
          <p:cNvPr id="11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VII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Je-li vybraný účastník zadávacího řízení vyloučen, provede se stejný proces s druhým v pořadí. Je-li pro hodnocení stanoveno více kritérií, musí se provést nové hodnocení, již bez vyloučeného vybraného účastníka. </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šem zúčastněným se oznámí výsledek zadávacího řízení.</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 ZJPŘ běží lhůta pro podání námitek (je to podlimitní VZ) a činí 15 dnů ode dne doručení oznámení o výběru nejvhodnější nabídky. V této lhůtě platí zákaz uzavřít smlouvu.</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avatel uveřejní výsledek zadávacího řízení do 30 dnů ode dne uzavření smlouvy ve Věstníku veřejných zakázek.</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 ukončení zadávacího řízení vyhotoví zadavatel o průběhu písemnou zprávu.</a:t>
            </a:r>
            <a:endParaRPr b="0" lang="en-US" sz="2000" spc="-1" strike="noStrike">
              <a:solidFill>
                <a:srgbClr val="000000"/>
              </a:solidFill>
              <a:latin typeface="Arial"/>
            </a:endParaRPr>
          </a:p>
        </p:txBody>
      </p:sp>
      <p:pic>
        <p:nvPicPr>
          <p:cNvPr id="11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adávací dokumentace 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ávací dokumentací se rozumí veškeré písemné dokumenty obsahující zadávací podmínky, sdělované nebo zpřístupňované účastníkům zadávacího řízení při zahájení zadávacího řízení včetně případných formulářů podle § 212 a výzev uvedených v příloze č. 6 k zákonu, </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ávacími podmínkami veškeré zadavatelem stanovené podmínky průběhu zadávacího řízení, podmínky účasti v zadávacím řízení,  pravidla pro snížení počtu účastníků zadávacího řízení, pravidla pro hodnocení nabídek a také další podmínky pro uzavření smlouvy na veřejnou zakázku podle § 104 zákona, </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Odpovědnost zadavatele za správnost a úplnost ZD zůstává. Pozor – jakýkoliv rozpor či nejednoznačnost v ZD je problémem zadavatele.</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Nově musí být v ZD identifikovány všechny osoby spolupracující na ZD (projektant, administrátor)</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adávací dokumentace I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vinným údajem v zadávacích podmínkách jsou (mimo jiné) podmínky účasti, kam se zahrnují: </a:t>
            </a:r>
            <a:endParaRPr b="0" lang="en-US" sz="2000" spc="-1" strike="noStrike">
              <a:solidFill>
                <a:srgbClr val="000000"/>
              </a:solidFill>
              <a:latin typeface="Arial"/>
            </a:endParaRPr>
          </a:p>
          <a:p>
            <a:pPr lvl="1" marL="743040" indent="-28584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Podmínky kvalifikace</a:t>
            </a:r>
            <a:endParaRPr b="0" lang="en-US" sz="1800" spc="-1" strike="noStrike">
              <a:solidFill>
                <a:srgbClr val="000000"/>
              </a:solidFill>
              <a:latin typeface="Arial"/>
            </a:endParaRPr>
          </a:p>
          <a:p>
            <a:pPr lvl="1" marL="743040" indent="-28584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Obchodní či jiné smluvní podmínky – tedy vzor smlouvy</a:t>
            </a:r>
            <a:endParaRPr b="0" lang="en-US" sz="1800" spc="-1" strike="noStrike">
              <a:solidFill>
                <a:srgbClr val="000000"/>
              </a:solidFill>
              <a:latin typeface="Arial"/>
            </a:endParaRPr>
          </a:p>
          <a:p>
            <a:pPr lvl="1" marL="743040" indent="-28584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Technické podmínky – u stavebních zakázek projektová dokumentace a soupis</a:t>
            </a:r>
            <a:endParaRPr b="0" lang="en-US" sz="1800" spc="-1" strike="noStrike">
              <a:solidFill>
                <a:srgbClr val="000000"/>
              </a:solidFill>
              <a:latin typeface="Arial"/>
            </a:endParaRPr>
          </a:p>
          <a:p>
            <a:pPr lvl="1" marL="743040" indent="-285840" algn="just">
              <a:lnSpc>
                <a:spcPct val="10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Zvláštní podmínky – zejména sociální (podíl na zakázce pro učně, nezaměstnané apod.)</a:t>
            </a:r>
            <a:endParaRPr b="0" lang="en-US" sz="18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ea typeface="Arial"/>
              </a:rPr>
              <a:t>Další požadovaný obsah zadávací dokumentace (již jen jako doporučený):</a:t>
            </a:r>
            <a:endParaRPr b="0" lang="en-US" sz="20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Podmínky na obsah, formu a způsob podání nabídek</a:t>
            </a:r>
            <a:endParaRPr b="0" lang="en-US" sz="18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Prohlídka místa plnění – je-li vhodná</a:t>
            </a:r>
            <a:endParaRPr b="0" lang="en-US" sz="18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Požadavek na poskytnutí jistoty</a:t>
            </a:r>
            <a:endParaRPr b="0" lang="en-US" sz="18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Pravidla hodnocení</a:t>
            </a:r>
            <a:endParaRPr b="0" lang="en-US" sz="1800" spc="-1" strike="noStrike">
              <a:solidFill>
                <a:srgbClr val="000000"/>
              </a:solidFill>
              <a:latin typeface="Arial"/>
            </a:endParaRPr>
          </a:p>
          <a:p>
            <a:pPr lvl="1" marL="743040" indent="-28584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70c0"/>
                </a:solidFill>
                <a:latin typeface="Arial"/>
                <a:ea typeface="Arial"/>
              </a:rPr>
              <a:t>Ostatní podmínky dle požadavků zadavatele </a:t>
            </a:r>
            <a:endParaRPr b="0" lang="en-US" sz="18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adávací dokumentace II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D musí být uveřejněna na profilu zadavatele (alespoň ode dne zahájení zadávacího řízení do konce lhůty pro podání nabídek). Do textové části patří i soupis stavebních prací, zákon preferuje uveřejňovat i projektovou dokumentaci.</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zor na uveřejňování na profilu – nově je stanoveno, že informace o zahájení zadávacího řízení nesmí být uveřejněna na profilu zadavatele před uveřejněním formuláře ve Věstníku veřejných zakázek. Nutno sledovat datum (možná i hodinu) skutečného uveřejnění!</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Co ze ZD nebude na profilu (zcela výjimečně), může se předávat zvlášť na žádost dodavatele. Zadavatel tak zcela ztratí přehled o tom, kdo má zájem účastnit se. Bude-li zadavatel předávat některou část ZD zvlášť, musí prodloužit lhůtu pro nabídky</a:t>
            </a:r>
            <a:r>
              <a:rPr b="0" lang="cs-CZ" sz="2000" spc="-1" strike="noStrike">
                <a:solidFill>
                  <a:srgbClr val="000000"/>
                </a:solidFill>
                <a:latin typeface="Arial"/>
              </a:rPr>
              <a:t>.</a:t>
            </a:r>
            <a:endParaRPr b="0" lang="en-US" sz="20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adávací dokumentace IV</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ávací podmínky lze vysvětlit či změnit nebo doplnit. Vysvětlení musí být na profilu, změna nebo doplnění rovněž a se změnou ZP se váže prodloužení lhůty pro podání. Tam, kde může změna ovlivnit okruh potencionálních dodavatelů o celou původní délku. Bude obtížné vymezit rozdíl mezi vysvětlením a změnou ZP.</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Doplnění položky do soupisu je změna zadávacích podmínek. Nutno prodloužit lhůtu.</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U stavebních zakázek je součástí ZD i projektová dokumentace a soupis stavebních prací. Vyhláška č. 230/2012 bude vydána nově s mírnou úpravou a je třeba dbát toho, aby projektant zpracoval soupisy v souladu s ní.</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28"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Kvalifikace dodavatelů</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usí u naprosté většiny veřejných zakázek vyžadovat prokázání základní způsobilosti dodavatele a zčásti i profesní způsobilosti dodavatele (výpis z OR).</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ůže (ale nemusí) vyžadovat prokázání odborné způsobilosti v rámci profesní způsobilosti dodavatele a rovněž může vyžadovat prokázání ekonomické a technické kvalifikace.</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Ve zjednodušeném řízení (podlimitní zakázky na služby a dodávky a veřejné zakázky na stavební práce do 50.000.000,- Kč) může zadavatel stanovit i jiná kritéria ekonomické a technické kvalifikace dodavatele, než jsou uvedena v zákoně.</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U nadlimitních a podlimitních zakázek (s výjimkou ZPŘ) nesmí zadavatel požadovat nic jiného, než mu umožňuje zákon.</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1"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Základní způsobilost dodavatele I</a:t>
            </a: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7030a0"/>
                </a:solidFill>
                <a:uFillTx/>
                <a:latin typeface="Arial"/>
              </a:rPr>
              <a:t>Způsobilým není dodavatel, který:</a:t>
            </a:r>
            <a:endParaRPr b="0" lang="en-US" sz="20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7030a0"/>
                </a:solidFill>
                <a:latin typeface="Arial"/>
              </a:rPr>
              <a:t>b</a:t>
            </a:r>
            <a:r>
              <a:rPr b="1" lang="en-US" sz="1800" spc="-1" strike="noStrike">
                <a:solidFill>
                  <a:srgbClr val="7030a0"/>
                </a:solidFill>
                <a:latin typeface="Arial"/>
              </a:rPr>
              <a:t>yl</a:t>
            </a:r>
            <a:r>
              <a:rPr b="1" lang="cs-CZ" sz="1800" spc="-1" strike="noStrike">
                <a:solidFill>
                  <a:srgbClr val="7030a0"/>
                </a:solidFill>
                <a:latin typeface="Arial"/>
              </a:rPr>
              <a:t> </a:t>
            </a:r>
            <a:r>
              <a:rPr b="1" lang="en-US" sz="1800" spc="-1" strike="noStrike">
                <a:solidFill>
                  <a:srgbClr val="7030a0"/>
                </a:solidFill>
                <a:latin typeface="Arial"/>
              </a:rPr>
              <a:t>v zemi svého sídla v posledních</a:t>
            </a:r>
            <a:r>
              <a:rPr b="1" lang="cs-CZ" sz="1800" spc="-1" strike="noStrike">
                <a:solidFill>
                  <a:srgbClr val="7030a0"/>
                </a:solidFill>
                <a:latin typeface="Arial"/>
              </a:rPr>
              <a:t> </a:t>
            </a:r>
            <a:r>
              <a:rPr b="1" lang="en-US" sz="1800" spc="-1" strike="noStrike">
                <a:solidFill>
                  <a:srgbClr val="7030a0"/>
                </a:solidFill>
                <a:latin typeface="Arial"/>
              </a:rPr>
              <a:t>5 letech přede dnem zahájení zadávacího řízení pravomocně odsouzen pro trestný čin uvedený v příloze č. 2 k tomuto zákonu; k zahlazeným trestným činům se nepřihlíží,</a:t>
            </a: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tuto část způsobilosti prokazuje dodavatel předložením výpisu </a:t>
            </a:r>
            <a:r>
              <a:rPr b="0" lang="en-US" sz="1800" spc="-1" strike="noStrike">
                <a:solidFill>
                  <a:srgbClr val="7030a0"/>
                </a:solidFill>
                <a:latin typeface="Arial"/>
              </a:rPr>
              <a:t>z evidence </a:t>
            </a:r>
            <a:r>
              <a:rPr b="0" lang="cs-CZ" sz="1800" spc="-1" strike="noStrike">
                <a:solidFill>
                  <a:srgbClr val="7030a0"/>
                </a:solidFill>
                <a:latin typeface="Arial"/>
              </a:rPr>
              <a:t>Rejstříku trestů právnické osoby a výpisu z rejstříku trestů pro všechny členy statutárního orgánu. Je-li členem statutárního orgánu dodavatele jiná právnická osoba, pak Rejstřík trestů musí předložit i tato právnická osoba i členové jejího statutárního orgánu</a:t>
            </a: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má v České</a:t>
            </a:r>
            <a:r>
              <a:rPr b="1" lang="cs-CZ" sz="1800" spc="-1" strike="noStrike">
                <a:solidFill>
                  <a:srgbClr val="7030a0"/>
                </a:solidFill>
                <a:latin typeface="Arial"/>
              </a:rPr>
              <a:t> </a:t>
            </a:r>
            <a:r>
              <a:rPr b="1" lang="en-US" sz="1800" spc="-1" strike="noStrike">
                <a:solidFill>
                  <a:srgbClr val="7030a0"/>
                </a:solidFill>
                <a:latin typeface="Arial"/>
              </a:rPr>
              <a:t>republice nebo</a:t>
            </a:r>
            <a:r>
              <a:rPr b="1" lang="cs-CZ" sz="1800" spc="-1" strike="noStrike">
                <a:solidFill>
                  <a:srgbClr val="7030a0"/>
                </a:solidFill>
                <a:latin typeface="Arial"/>
              </a:rPr>
              <a:t> </a:t>
            </a:r>
            <a:r>
              <a:rPr b="1" lang="en-US" sz="1800" spc="-1" strike="noStrike">
                <a:solidFill>
                  <a:srgbClr val="7030a0"/>
                </a:solidFill>
                <a:latin typeface="Arial"/>
              </a:rPr>
              <a:t>v zemi svého sídla v evidenci daní zachycen splatný daňový nedoplatek</a:t>
            </a:r>
            <a:r>
              <a:rPr b="0" lang="en-US" sz="1800" spc="-1" strike="noStrike">
                <a:solidFill>
                  <a:srgbClr val="7030a0"/>
                </a:solidFill>
                <a:latin typeface="Arial"/>
              </a:rPr>
              <a:t>, </a:t>
            </a: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tuto část způsobilosti prokazuje dodavatel předložením </a:t>
            </a:r>
            <a:r>
              <a:rPr b="0" lang="en-US" sz="1800" spc="-1" strike="noStrike">
                <a:solidFill>
                  <a:srgbClr val="7030a0"/>
                </a:solidFill>
                <a:latin typeface="Arial"/>
              </a:rPr>
              <a:t>potvrzení</a:t>
            </a:r>
            <a:r>
              <a:rPr b="0" lang="cs-CZ" sz="1800" spc="-1" strike="noStrike">
                <a:solidFill>
                  <a:srgbClr val="7030a0"/>
                </a:solidFill>
                <a:latin typeface="Arial"/>
              </a:rPr>
              <a:t> </a:t>
            </a:r>
            <a:r>
              <a:rPr b="0" lang="en-US" sz="1800" spc="-1" strike="noStrike">
                <a:solidFill>
                  <a:srgbClr val="7030a0"/>
                </a:solidFill>
                <a:latin typeface="Arial"/>
              </a:rPr>
              <a:t>příslušného finančního úřadu </a:t>
            </a:r>
            <a:r>
              <a:rPr b="0" lang="cs-CZ" sz="1800" spc="-1" strike="noStrike">
                <a:solidFill>
                  <a:srgbClr val="7030a0"/>
                </a:solidFill>
                <a:latin typeface="Arial"/>
              </a:rPr>
              <a:t>a </a:t>
            </a:r>
            <a:r>
              <a:rPr b="0" lang="en-US" sz="1800" spc="-1" strike="noStrike">
                <a:solidFill>
                  <a:srgbClr val="7030a0"/>
                </a:solidFill>
                <a:latin typeface="Arial"/>
              </a:rPr>
              <a:t>čestného prohlášení ve vztahu ke spotřební dani</a:t>
            </a:r>
            <a:r>
              <a:rPr b="0" lang="cs-CZ" sz="1800" spc="-1" strike="noStrike">
                <a:solidFill>
                  <a:srgbClr val="7030a0"/>
                </a:solidFill>
                <a:latin typeface="Arial"/>
              </a:rPr>
              <a:t> </a:t>
            </a:r>
            <a:endParaRPr b="0" lang="en-US" sz="1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4"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Základní způsobilost dodavatele I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á v České republice nebo v zemi svého sídla splatný nedoplatek na pojistném nebo na penále na veřejné zdravotní pojištění, </a:t>
            </a:r>
            <a:endParaRPr b="0" lang="en-US" sz="20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tuto část způsobilosti prokazuje dodavatel předložením </a:t>
            </a:r>
            <a:r>
              <a:rPr b="0" lang="en-US" sz="1800" spc="-1" strike="noStrike">
                <a:solidFill>
                  <a:srgbClr val="7030a0"/>
                </a:solidFill>
                <a:latin typeface="Arial"/>
              </a:rPr>
              <a:t>čestného prohlášení</a:t>
            </a:r>
            <a:endParaRPr b="0" lang="en-US" sz="1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má v České republice  nebo v zemi svého sídla splatný nedoplatek na pojistném nebo na penále na sociální zabezpečení a příspěvku na státní politiku zaměstnanosti,</a:t>
            </a:r>
            <a:endParaRPr b="0" lang="en-US" sz="20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tuto část způsobilosti prokazuje dodavatel předložením </a:t>
            </a:r>
            <a:r>
              <a:rPr b="0" lang="en-US" sz="1800" spc="-1" strike="noStrike">
                <a:solidFill>
                  <a:srgbClr val="7030a0"/>
                </a:solidFill>
                <a:latin typeface="Arial"/>
              </a:rPr>
              <a:t>potvrzení příslušné okresní správy sociálního zabezpečení</a:t>
            </a:r>
            <a:endParaRPr b="0" lang="en-US" sz="1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Arial"/>
              </a:rPr>
              <a:t>je v likvidaci, proti němuž bylo vydáno rozhodnutí o úpadku nebo vůči němuž byla nařízena nucená správa podle jiného právního předpisu.</a:t>
            </a:r>
            <a:endParaRPr b="0" lang="en-US" sz="20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tuto část způspobilosti prokazuje dodavatel předložením </a:t>
            </a:r>
            <a:r>
              <a:rPr b="0" lang="en-US" sz="1800" spc="-1" strike="noStrike">
                <a:solidFill>
                  <a:srgbClr val="7030a0"/>
                </a:solidFill>
                <a:latin typeface="Arial"/>
              </a:rPr>
              <a:t>výpisu z obchodního rejstříku, nebo předložením čestného prohlášení v případě, že není v obchodním rejstříku zapsán</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37"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Základní způsobilost dodavatele II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Je-li dodavatelem právnická osoba, musí podmínku podle odstavce 1 písm. a)  splňovat tato právnická osoba (výpis z Rejstříku trestů právnických osob) a zároveň každý člen statutárního orgánu (pro každého výpis z Rejstříku trestů).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Je-li členem statutárního orgánu dodavatele právnická osoba, musí podmínku „beztrestnosti“ splňovat tato právnická osoba (opět výpis z RT právnických osob) a každý člen statutárního orgánu této právnické osoby (opět výpis z RT pro všechny členy statutárního orgánu) .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Účastní-li se zadávacího řízení dodavatel prostřednictvím pobočky (organizační složka), musí podmínku „beztrestnosti“ splňovat vedoucí pobočky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roti předchozí právní úpravě již se jako „vada“ neposuzují nedoplatky, u nichž je po dohodě odložena splatnos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Nové pojetí zákona</a:t>
            </a:r>
            <a:endParaRPr b="0" lang="en-US" sz="28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ákon na první pohled působí jako zcela jiný právní předpis, ale je v podstatě obdobný jako předchozí (současná) právní úprava (pokud zadavatel bude postupovat jako doposud, neměl by se dostat až na výjimky do problémů).</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ákon minimalizuje povinnosti zadavatele, protože řada současných povinností je koncipována jako možnost zadavatele. Při současném pojetí kontrol a rozhodovací praxe bude náročné odůvodnit, proč zákonnou možnost zadavatel využil nebo nevyužil. Celý proces tedy bude pravděpodobně vyžadovat větší potřebu odůvodňovat zvolený postup zadavatele.</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Odůvodnění je vždy subjektivním názorem zadavatele, který může být podroben kritice jiného subjektivního názoru.</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Základní způsobilost dodavatele IV</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ůže stanovit, že podmínku „beztrestnosti“ musí splňovat také jiné osoby, ale jen osoby, které mají v rámci struktury dodavatele práva spojená se zastupováním, rozhodováním nebo kontrolou dodavatele. Proč by tak zadavatel činil není jasné.</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Neprokázání základní způsobilosti je důvodem pro vyloučení dodavatele s výjimkou, kdy </a:t>
            </a:r>
            <a:r>
              <a:rPr b="0" lang="en-US" sz="2000" spc="-1" strike="noStrike">
                <a:solidFill>
                  <a:srgbClr val="7030a0"/>
                </a:solidFill>
                <a:latin typeface="Arial"/>
              </a:rPr>
              <a:t>by </a:t>
            </a:r>
            <a:r>
              <a:rPr b="0" lang="cs-CZ" sz="2000" spc="-1" strike="noStrike">
                <a:solidFill>
                  <a:srgbClr val="7030a0"/>
                </a:solidFill>
                <a:latin typeface="Arial"/>
              </a:rPr>
              <a:t>vyloučení účastníka zadávacího řízení znemožnilo zadání veřejné zakázky a naléhavý zájem vyžaduje plnění veřejné zakázky</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ákladní způsobilost lze obnovi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Obnovení základní způsobilosti 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Účastník zadávacího řízení může prokázat, že i přes nesplnění základní způsobilosti obnovil svou způsobilost k účasti v zadávacím řízení, pokud v průběhu zadávacího řízení zadavateli doloží, že přijal dostatečná nápravná opatření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Obnovení způsobilosti je právem účastníka zadávacího řízení a může tak učinit, aniž by k tomu byl zadavatelem vyzván. Obnovení se děje prostřednictvím nápravných opatření, které dodavatel předloží zadavateli, a to kdykoliv v průběhu zadávacího řízení.</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7030a0"/>
                </a:solidFill>
                <a:uFillTx/>
                <a:latin typeface="Arial"/>
              </a:rPr>
              <a:t>Nápravnými opatřeními je zejména</a:t>
            </a:r>
            <a:endParaRPr b="0" lang="en-US" sz="2000" spc="-1" strike="noStrike">
              <a:solidFill>
                <a:srgbClr val="000000"/>
              </a:solidFill>
              <a:latin typeface="Arial"/>
            </a:endParaRPr>
          </a:p>
          <a:p>
            <a:pPr lvl="1" marL="800280" indent="-343080" algn="just">
              <a:lnSpc>
                <a:spcPct val="10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Arial"/>
              </a:rPr>
              <a:t>uhrazení dlužných částek nebo nedoplatků, </a:t>
            </a:r>
            <a:endParaRPr b="0" lang="en-US" sz="1600" spc="-1" strike="noStrike">
              <a:solidFill>
                <a:srgbClr val="000000"/>
              </a:solidFill>
              <a:latin typeface="Arial"/>
            </a:endParaRPr>
          </a:p>
          <a:p>
            <a:pPr lvl="1" marL="800280" indent="-343080" algn="just">
              <a:lnSpc>
                <a:spcPct val="10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Arial"/>
              </a:rPr>
              <a:t>úplná náhrada škody způsobená spácháním trestného činu nebo pochybením,</a:t>
            </a:r>
            <a:endParaRPr b="0" lang="en-US" sz="1600" spc="-1" strike="noStrike">
              <a:solidFill>
                <a:srgbClr val="000000"/>
              </a:solidFill>
              <a:latin typeface="Arial"/>
            </a:endParaRPr>
          </a:p>
          <a:p>
            <a:pPr lvl="1" marL="800280" indent="-343080" algn="just">
              <a:lnSpc>
                <a:spcPct val="10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Arial"/>
              </a:rPr>
              <a:t>aktivní spolupráce s orgány provádějícími vyšetřování, dozor nebo přezkum, nebo</a:t>
            </a:r>
            <a:endParaRPr b="0" lang="en-US" sz="1600" spc="-1" strike="noStrike">
              <a:solidFill>
                <a:srgbClr val="000000"/>
              </a:solidFill>
              <a:latin typeface="Arial"/>
            </a:endParaRPr>
          </a:p>
          <a:p>
            <a:pPr lvl="1" marL="800280" indent="-343080" algn="just">
              <a:lnSpc>
                <a:spcPct val="100000"/>
              </a:lnSpc>
              <a:spcBef>
                <a:spcPts val="4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ea typeface="Arial"/>
              </a:rPr>
              <a:t>přijetí technických, organizačních nebo personálních preventivních opatření proti trestné činnosti nebo pochybením.</a:t>
            </a:r>
            <a:endParaRPr b="0" lang="en-US" sz="16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Obnovení základní způsobilosti I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posoudí nápravná opatření a rozhodne, zda jsou dostatečná k obnovení způsobilosti dodavatele.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kud zadavatel posoudí nápravná opatření jako dostatečná, pak nevylučuje. Byl-li dodavatel již vyloučen, pak takové rozhodnutí zadavatel zruší.</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Tento institut prodlouží dobu trvání zadávacího řízení a zvyšuje riziko námitek!!  Rozhodnutí o dostatečnosti nápravných opatření je subjektivním názorem zadavatele. Jakkoliv by rozhodl, že nápravná opatření nejsou dostatečná, musí počítat s námitkami dodavatele.</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 pohledu dnešní rozhodovací praxe a evropských kontrol bude zadavatel muset jakékoliv rozhodnutí odůvodňova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4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Profesní způsobilost</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Dodavatel prokazuje splnění profesní způsobilosti ve vztahu k České republice předložením výpisu z obchodního rejstříku /ten předložil již v rámci základní způsobilosti dodavatele)</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žaduje-li to zadavatel (ale nemusí), musí dodavatel prokázat </a:t>
            </a:r>
            <a:endParaRPr b="0" lang="en-US" sz="20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oprávněn</a:t>
            </a:r>
            <a:r>
              <a:rPr b="0" lang="cs-CZ" sz="1800" spc="-1" strike="noStrike">
                <a:solidFill>
                  <a:srgbClr val="7030a0"/>
                </a:solidFill>
                <a:latin typeface="Arial"/>
                <a:ea typeface="Arial"/>
              </a:rPr>
              <a:t>í</a:t>
            </a:r>
            <a:r>
              <a:rPr b="0" lang="en-US" sz="1800" spc="-1" strike="noStrike">
                <a:solidFill>
                  <a:srgbClr val="7030a0"/>
                </a:solidFill>
                <a:latin typeface="Arial"/>
                <a:ea typeface="Arial"/>
              </a:rPr>
              <a:t> podnikat v rozsahu odpovídajícímu předmětu veřejné zakázky, pokud jiné právní předpisy takové oprávnění vyžadují,</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že je </a:t>
            </a:r>
            <a:r>
              <a:rPr b="0" lang="en-US" sz="1800" spc="-1" strike="noStrike">
                <a:solidFill>
                  <a:srgbClr val="7030a0"/>
                </a:solidFill>
                <a:latin typeface="Arial"/>
                <a:ea typeface="Arial"/>
              </a:rPr>
              <a:t>odborně způsobilý nebo disponuje osobou, jejímž prostřednictvím odbornou způsobilost zabezpečuje, je-li pro plnění veřejné zakázky odborná způsobilost jinými právními předpisy vyžadována</a:t>
            </a:r>
            <a:r>
              <a:rPr b="0" lang="cs-CZ" sz="1800" spc="-1" strike="noStrike">
                <a:solidFill>
                  <a:srgbClr val="7030a0"/>
                </a:solidFill>
                <a:latin typeface="Arial"/>
                <a:ea typeface="Arial"/>
              </a:rPr>
              <a:t> (osvědčení o autiorizaci).</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V původní verzi Důvodové zprávy (DZ) byla poznámka, že požaduje-li zadavatel oprávnění k podnikání (ŽL nebo výpis z živnostenského rejstříku), musí sdělit, která oprávnění (pro jaké živnosti) požaduje?! Dtto asi i pro osvědčení o autorizaci? Toto již není v poslední verzi DZ  - bude to tedy asi na uvážení zadavatele, ale je vhodnější pokud výčet požadovaného uvede.</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Ekonomická kvalifikace</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Může, ale nemusí být vyžadována.</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kud vyžadována je, pak pouze </a:t>
            </a:r>
            <a:r>
              <a:rPr b="0" lang="cs-CZ" sz="2000" spc="-1" strike="noStrike" u="sng">
                <a:solidFill>
                  <a:srgbClr val="7030a0"/>
                </a:solidFill>
                <a:uFillTx/>
                <a:latin typeface="Arial"/>
              </a:rPr>
              <a:t>celkový roční obrat</a:t>
            </a:r>
            <a:r>
              <a:rPr b="0" lang="cs-CZ" sz="2000" spc="-1" strike="noStrike">
                <a:solidFill>
                  <a:srgbClr val="7030a0"/>
                </a:solidFill>
                <a:latin typeface="Arial"/>
              </a:rPr>
              <a:t> dodavatele, a to nejdéle za 3 bezprostředně předcházející účetní období. Vznikl-li dodavatel později, postačí, předloží-li údaje o svém obratu v požadované výši za všechna účetní období od svého vzniku.</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Minimální úroveň obratu je zákonem omezena na nejvýše dvojnásobek předpokládané hodnoty veřejné zakázky. U stavebních prací tedy není zohledněn čas plnění v případech, kdy je stavba realizována po více let.</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Dodavatel prokazuje ekonomickou kvalifikaci výkazem zisku a ztrát.</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Chybí podrobnější vymezení pojmu „Bezprostředně předcházející účetní období“ – jde o období, které skončilo / bylo předáno na FÚ/ nebo má dokončen audit?</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ákon vyžaduje roční obrat, přitom obrat za rok a účetní období nemusí být shodný?!</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58"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Technická kvalifikace 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Může, ale nemusí být vyžadována.</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7030a0"/>
                </a:solidFill>
                <a:uFillTx/>
                <a:latin typeface="Arial"/>
              </a:rPr>
              <a:t>Pokud vyžadována je, pak pouze zákonné možnosti (výběr pro VZ na stavební práce): </a:t>
            </a:r>
            <a:endParaRPr b="0" lang="en-US" sz="20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seznam stavebních prací poskytnutých nejdéle za posledních 5 let od okamžiku zahájení zadávacího řízení</a:t>
            </a:r>
            <a:r>
              <a:rPr b="0" lang="cs-CZ" sz="1800" spc="-1" strike="noStrike">
                <a:solidFill>
                  <a:srgbClr val="7030a0"/>
                </a:solidFill>
                <a:latin typeface="Arial"/>
                <a:ea typeface="Arial"/>
              </a:rPr>
              <a:t>,</a:t>
            </a:r>
            <a:r>
              <a:rPr b="0" lang="en-US" sz="1800" spc="-1" strike="noStrike">
                <a:solidFill>
                  <a:srgbClr val="7030a0"/>
                </a:solidFill>
                <a:latin typeface="Arial"/>
                <a:ea typeface="Arial"/>
              </a:rPr>
              <a:t> včetně osvědčení objednatele</a:t>
            </a:r>
            <a:r>
              <a:rPr b="0" lang="cs-CZ" sz="1800" spc="-1" strike="noStrike">
                <a:solidFill>
                  <a:srgbClr val="7030a0"/>
                </a:solidFill>
                <a:latin typeface="Arial"/>
                <a:ea typeface="Arial"/>
              </a:rPr>
              <a:t>, přičemž z</a:t>
            </a:r>
            <a:r>
              <a:rPr b="0" lang="en-US" sz="1800" spc="-1" strike="noStrike">
                <a:solidFill>
                  <a:srgbClr val="7030a0"/>
                </a:solidFill>
                <a:latin typeface="Arial"/>
                <a:ea typeface="Arial"/>
              </a:rPr>
              <a:t>adavatel může požadovat předložení těchto dokladů i za dobu </a:t>
            </a:r>
            <a:r>
              <a:rPr b="1" lang="en-US" sz="1800" spc="-1" strike="noStrike">
                <a:solidFill>
                  <a:srgbClr val="7030a0"/>
                </a:solidFill>
                <a:latin typeface="Arial"/>
                <a:ea typeface="Arial"/>
              </a:rPr>
              <a:t>delší než posledních 5 let </a:t>
            </a:r>
            <a:r>
              <a:rPr b="0" lang="en-US" sz="1800" spc="-1" strike="noStrike">
                <a:solidFill>
                  <a:srgbClr val="7030a0"/>
                </a:solidFill>
                <a:latin typeface="Arial"/>
                <a:ea typeface="Arial"/>
              </a:rPr>
              <a:t>od okamžiku zahájení zadávacího řízení, pokud je to nezbytné pro zajištění přiměřené úrovně hospodářské soutěže,</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seznam techniků nebo technických útvarů, které se budou podílet na plnění veřejné zakázky, a to zejména těch, které zajišťují kontrolu kvality nebo budou provádět stavební práce,</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osvědčení o vzdělání a odborné kvalifikaci</a:t>
            </a:r>
            <a:r>
              <a:rPr b="0" lang="cs-CZ" sz="1800" spc="-1" strike="noStrike">
                <a:solidFill>
                  <a:srgbClr val="7030a0"/>
                </a:solidFill>
                <a:latin typeface="Arial"/>
                <a:ea typeface="Arial"/>
              </a:rPr>
              <a:t>,</a:t>
            </a:r>
            <a:r>
              <a:rPr b="0" lang="en-US" sz="1800" spc="-1" strike="noStrike">
                <a:solidFill>
                  <a:srgbClr val="7030a0"/>
                </a:solidFill>
                <a:latin typeface="Arial"/>
                <a:ea typeface="Arial"/>
              </a:rPr>
              <a:t> vztahující se k požadovaným stavebním pracem, a to jak ve vztahu k fyzickým osobám, které mohou stavební práce poskytovat, tak ve vztahu k  jejich vedoucím pracovníkům</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1" name="PlaceHolder 2"/>
          <p:cNvSpPr>
            <a:spLocks noGrp="1"/>
          </p:cNvSpPr>
          <p:nvPr>
            <p:ph type="subTitle"/>
          </p:nvPr>
        </p:nvSpPr>
        <p:spPr>
          <a:xfrm>
            <a:off x="324000" y="1196640"/>
            <a:ext cx="8640720" cy="5040360"/>
          </a:xfrm>
          <a:prstGeom prst="rect">
            <a:avLst/>
          </a:prstGeom>
          <a:noFill/>
          <a:ln w="0">
            <a:noFill/>
          </a:ln>
        </p:spPr>
        <p:txBody>
          <a:bodyPr anchor="t">
            <a:noAutofit/>
          </a:bodyPr>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ea typeface="Arial"/>
              </a:rPr>
              <a:t>Technická kvalifikace II</a:t>
            </a:r>
            <a:endParaRPr b="0" lang="en-US" sz="2800" spc="-1" strike="noStrike">
              <a:solidFill>
                <a:srgbClr val="000000"/>
              </a:solidFill>
              <a:latin typeface="Arial"/>
            </a:endParaRPr>
          </a:p>
          <a:p>
            <a:pPr lvl="1"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popis technického vybavení, </a:t>
            </a:r>
            <a:r>
              <a:rPr b="0" lang="cs-CZ" sz="1800" spc="-1" strike="noStrike" u="sng">
                <a:solidFill>
                  <a:srgbClr val="7030a0"/>
                </a:solidFill>
                <a:uFillTx/>
                <a:latin typeface="Arial"/>
                <a:ea typeface="Arial"/>
              </a:rPr>
              <a:t>popis opatření dodavatele k zajištění kvality </a:t>
            </a:r>
            <a:r>
              <a:rPr b="0" lang="cs-CZ" sz="1800" spc="-1" strike="noStrike">
                <a:solidFill>
                  <a:srgbClr val="7030a0"/>
                </a:solidFill>
                <a:latin typeface="Arial"/>
                <a:ea typeface="Arial"/>
              </a:rPr>
              <a:t>nebo popis zařízení pro výzkum,</a:t>
            </a:r>
            <a:endParaRPr b="0" lang="en-US" sz="1800" spc="-1" strike="noStrike">
              <a:solidFill>
                <a:srgbClr val="000000"/>
              </a:solidFill>
              <a:latin typeface="Arial"/>
            </a:endParaRPr>
          </a:p>
          <a:p>
            <a:pPr lvl="1"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opatření v oblasti řízení z hlediska </a:t>
            </a:r>
            <a:r>
              <a:rPr b="0" lang="en-US" sz="1800" spc="-1" strike="noStrike" u="sng">
                <a:solidFill>
                  <a:srgbClr val="7030a0"/>
                </a:solidFill>
                <a:uFillTx/>
                <a:latin typeface="Arial"/>
                <a:ea typeface="Arial"/>
              </a:rPr>
              <a:t>ochrany životního prostředí</a:t>
            </a:r>
            <a:r>
              <a:rPr b="0" lang="en-US" sz="1800" spc="-1" strike="noStrike">
                <a:solidFill>
                  <a:srgbClr val="7030a0"/>
                </a:solidFill>
                <a:latin typeface="Arial"/>
                <a:ea typeface="Arial"/>
              </a:rPr>
              <a:t>, která bude dodavatel schopen použít při plnění veřejné zakázky,</a:t>
            </a:r>
            <a:endParaRPr b="0" lang="en-US" sz="1800" spc="-1" strike="noStrike">
              <a:solidFill>
                <a:srgbClr val="000000"/>
              </a:solidFill>
              <a:latin typeface="Arial"/>
            </a:endParaRPr>
          </a:p>
          <a:p>
            <a:pPr lvl="1"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přehled průměrného ročního počtu zaměstnanců dodavatele nebo počtu vedoucích zaměstnanců dodavatele nebo osob v obdobném postavení za poslední 3 roky,</a:t>
            </a:r>
            <a:endParaRPr b="0" lang="en-US" sz="1800" spc="-1" strike="noStrike">
              <a:solidFill>
                <a:srgbClr val="000000"/>
              </a:solidFill>
              <a:latin typeface="Arial"/>
            </a:endParaRPr>
          </a:p>
          <a:p>
            <a:pPr lvl="1"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přehled nástrojů</a:t>
            </a:r>
            <a:r>
              <a:rPr b="0" lang="cs-CZ" sz="1800" spc="-1" strike="noStrike">
                <a:solidFill>
                  <a:srgbClr val="7030a0"/>
                </a:solidFill>
                <a:latin typeface="Arial"/>
                <a:ea typeface="Arial"/>
              </a:rPr>
              <a:t> </a:t>
            </a:r>
            <a:r>
              <a:rPr b="0" lang="en-US" sz="1800" spc="-1" strike="noStrike">
                <a:solidFill>
                  <a:srgbClr val="7030a0"/>
                </a:solidFill>
                <a:latin typeface="Arial"/>
                <a:ea typeface="Arial"/>
              </a:rPr>
              <a:t>nebo pomůcek, provozních nebo technických zařízení, které bude mít dodavatel při plnění veřejné zakázky k dispozici,</a:t>
            </a:r>
            <a:endParaRPr b="0" lang="en-US" sz="1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4" name="PlaceHolder 2"/>
          <p:cNvSpPr>
            <a:spLocks noGrp="1"/>
          </p:cNvSpPr>
          <p:nvPr>
            <p:ph type="subTitle"/>
          </p:nvPr>
        </p:nvSpPr>
        <p:spPr>
          <a:xfrm>
            <a:off x="324000" y="1196640"/>
            <a:ext cx="8640720" cy="5040360"/>
          </a:xfrm>
          <a:prstGeom prst="rect">
            <a:avLst/>
          </a:prstGeom>
          <a:noFill/>
          <a:ln w="0">
            <a:noFill/>
          </a:ln>
        </p:spPr>
        <p:txBody>
          <a:bodyPr anchor="t">
            <a:noAutofit/>
          </a:bodyPr>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ea typeface="Arial"/>
              </a:rPr>
              <a:t>Technická kvalifikace III</a:t>
            </a:r>
            <a:endParaRPr b="0" lang="en-US" sz="28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Doba referenčních staveb – posledních 5 let – poměřuje se ke dni zahájení zadávacího řízení a platí, že v této době musela být referenční </a:t>
            </a:r>
            <a:r>
              <a:rPr b="1" lang="cs-CZ" sz="2000" spc="-1" strike="noStrike">
                <a:solidFill>
                  <a:srgbClr val="7030a0"/>
                </a:solidFill>
                <a:latin typeface="Arial"/>
              </a:rPr>
              <a:t>stavba dokončena </a:t>
            </a:r>
            <a:r>
              <a:rPr b="0" lang="cs-CZ" sz="2000" spc="-1" strike="noStrike">
                <a:solidFill>
                  <a:srgbClr val="7030a0"/>
                </a:solidFill>
                <a:latin typeface="Arial"/>
              </a:rPr>
              <a:t>(tedy předána a převzata objednatelem?!). Zadavatel však může stanovit jinak.</a:t>
            </a:r>
            <a:endParaRPr b="0" lang="en-US" sz="20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Referenční zakázka realizovaná sdružením, jehož účastníkem byl dodavatel se posuzuje v rozsahu v jakém se podílel (tedy ne celá).</a:t>
            </a:r>
            <a:endParaRPr b="0" lang="en-US" sz="20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Referenční zakázka realizovaná dodavatelem jako subdodavatelem se posuzuje pouze v rozsahu subdodávky (jak z hlediska objemu tak druhu prací).</a:t>
            </a:r>
            <a:endParaRPr b="0" lang="en-US" sz="20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však má právo stanovit jinak (tedy např. že stavby realizované ve sdružení bude posuzovat v celém objemu).</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67" name="PlaceHolder 2"/>
          <p:cNvSpPr>
            <a:spLocks noGrp="1"/>
          </p:cNvSpPr>
          <p:nvPr>
            <p:ph type="subTitle"/>
          </p:nvPr>
        </p:nvSpPr>
        <p:spPr>
          <a:xfrm>
            <a:off x="324000" y="1196640"/>
            <a:ext cx="8640720" cy="5040360"/>
          </a:xfrm>
          <a:prstGeom prst="rect">
            <a:avLst/>
          </a:prstGeom>
          <a:noFill/>
          <a:ln w="0">
            <a:noFill/>
          </a:ln>
        </p:spPr>
        <p:txBody>
          <a:bodyPr anchor="t">
            <a:noAutofit/>
          </a:bodyPr>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ea typeface="Arial"/>
              </a:rPr>
              <a:t>Technická kvalifikace IV</a:t>
            </a:r>
            <a:endParaRPr b="0" lang="en-US" sz="28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U referenčních staveb je nutné předkládat i osvědčení objednatele (dodávky a služby nemusí). Jako rovnocenný doklad je i smlouva s objednatelem a doklad o uskutečnění plnění (asi předávací protokol po odstranění vad?).</a:t>
            </a:r>
            <a:endParaRPr b="0" lang="en-US" sz="2000" spc="-1" strike="noStrike">
              <a:solidFill>
                <a:srgbClr val="000000"/>
              </a:solidFill>
              <a:latin typeface="Arial"/>
            </a:endParaRPr>
          </a:p>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7030a0"/>
                </a:solidFill>
                <a:latin typeface="Arial"/>
              </a:rPr>
              <a:t>Pozor.</a:t>
            </a:r>
            <a:r>
              <a:rPr b="0" lang="cs-CZ" sz="2000" spc="-1" strike="noStrike">
                <a:solidFill>
                  <a:srgbClr val="7030a0"/>
                </a:solidFill>
                <a:latin typeface="Arial"/>
              </a:rPr>
              <a:t> Dle nových ustanovení technické kvalifikace se vrací normy zajišťování jakosti a normy environmentálního řízení (tedy ISO 9000 a ISO 14000 či EMAS).  Není zřejmé, zda je právo požadovat výhradně příslušný certifikát nebo lze prokazovat i jinak. Co v takovém případě prokazování subdodavatelem – tento problém zůstává?</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8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Druhy a limity veřejných zakázek</a:t>
            </a:r>
            <a:endParaRPr b="0" lang="en-US" sz="28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 platnosti zůstává rozčlenění veřejných zakázek dle druhu: </a:t>
            </a:r>
            <a:endParaRPr b="0" lang="en-US" sz="20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Dodávky</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Služby</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Stavební práce</a:t>
            </a:r>
            <a:endParaRPr b="0" lang="en-US" sz="1600" spc="-1" strike="noStrike">
              <a:solidFill>
                <a:srgbClr val="000000"/>
              </a:solidFill>
              <a:latin typeface="Arial"/>
            </a:endParaRPr>
          </a:p>
          <a:p>
            <a:pPr lvl="1" marL="800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Dále jsou od 1.1. 2016 stanovený nařízením vlády nové finanční limity pro kategorizaci veřejných zakázek (dle výše předpokládané hodnoty veřejné zakázky):</a:t>
            </a:r>
            <a:endParaRPr b="0" lang="en-US" sz="20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Veřejné zakázky malého rozsahu – dodávky a služby do 2.000.000,- Kč a stavební práce do 6.000.000,- Kč.</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Podlimitní veřejné zakázky– dodávky a služby do 5.706.000,- Kč a stavební práce do 142.668.000,- Kč.</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Nadlimitní veřejné zakázky– dodávky a služby nad 5.706.000,- Kč a stavební práce nad 142.668.000,- Kč.</a:t>
            </a:r>
            <a:endParaRPr b="0" lang="en-US" sz="1600" spc="-1" strike="noStrike">
              <a:solidFill>
                <a:srgbClr val="000000"/>
              </a:solidFill>
              <a:latin typeface="Arial"/>
            </a:endParaRPr>
          </a:p>
          <a:p>
            <a:pPr lvl="1" marL="800280" indent="-343080"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ea typeface="Arial"/>
              </a:rPr>
              <a:t>Lze předpokládat, že tyto limity zůstanou zachovány i v novém zákoně.</a:t>
            </a:r>
            <a:endParaRPr b="0" lang="en-US" sz="2000" spc="-1" strike="noStrike">
              <a:solidFill>
                <a:srgbClr val="000000"/>
              </a:solidFill>
              <a:latin typeface="Arial"/>
            </a:endParaRPr>
          </a:p>
          <a:p>
            <a:pPr lvl="1" marL="8002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7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Ostatní podmínky kvalifikace 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kud se kvalifikace prokazuje ve vztahu k jiné zemi než k České republice, prokazuje se doklady vydanými podle právního řádu této země, a to v rozsahu požadovaném zadavatelem.  </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V případě společné nabídky prokazuje základní způsobilost a výpis z OR každý dodavatel samostatně.</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ůže stanovit bližší pravidla pro prokazování profesní způsobilosti /oprávnění k podnikání a odborná způsobilost), ekonomické kvalifikace nebo technické kvalifikace, pokud se dodavatelé účastní zadávacího řízení společně nebo prokazují kvalifikaci prostřednictvím jiných osob; Pokud zadavatel nestanoví jinak, pak dodavatelé, popřípadě jiné osoby, prokazují kvalifikaci společně.</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7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Ostatní podmínky kvalifikace I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Lze tedy vymezit pravidla pro společné nabídky a pro subdodavatele, ale musí se dbát na dodržení zákonných pravidel.</a:t>
            </a:r>
            <a:endParaRPr b="0" lang="en-US" sz="20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Příklad: Z důvodové zprávy – zadavatel požaduje obrat 100 mil. Kč. Pro společnou nabídku nebo pro subdodavatele stanoví, že každá taková osoba musí mít obrat nejméně 40 mil. Kč a společně nejméně 100 mil. Kč. Nelze však požadovat, aby některá z těchto osob měla obrat vyšší jak 100 mil.Kč.</a:t>
            </a:r>
            <a:endParaRPr b="0" lang="en-US" sz="1800" spc="-1" strike="noStrike">
              <a:solidFill>
                <a:srgbClr val="000000"/>
              </a:solidFill>
              <a:latin typeface="Arial"/>
            </a:endParaRPr>
          </a:p>
          <a:p>
            <a:pPr algn="just">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rPr>
              <a:t>PV: Obdobně referenční stavby – zadavatel chce tři stavby kanalizace za 20 mil. Kč a může stanovit, že alespoň jeden z účastníků společné nabídky musí mít všechny tři stavby nebo subdodavatel musí vždy prokázat všechny tři stavby. Nestanoví–li zadavatel nic jiného, pak platí, že jejich plnění (obrat nebo zakázky) se sčítají.</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7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Ostatní podmínky kvalifikace II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U veřejných zakázek na stavební práce může zadavatel požadovat předložení dokladů prokazujících základní způsobilost a profesní způsobilost poddodavateli. Podmínky musí zadavatel vymezit.</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ůže požadovat nahrazení poddodavatele, který neprokáže splnění zadavatelem požadovaných kritérií způsobilosti. V takovém případě musí dodavatel poddodavatele nahradit nejpozději do konce zadavatelem stanovené přiměřené lhůty. Tuto lhůtu může zadavatel prodloužit nebo prominout její zmeškání.</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kud nedojde k nahrazení poddodavatele a zadávací řízení není do té doby ukončeno, zadavatel může účastníka zadávacího řízení vyloučit.</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Jeví se jako složité a raději nepoužíva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7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Doklady o splnění kvalifikace 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 obecného ustanovení k dokladům platí, že pokud zákon nebo zadavatel vyžaduje předložení dokladu, předkládá dodavatel kopie dokladu, nestanoví-li tento zákon jinak. Zadavatel může kdykoliv požadovat předložení originálu nebo ověřené kopie dokladu.</a:t>
            </a:r>
            <a:endParaRPr b="0" lang="en-US" sz="20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jednodušené podlimitní řízení</a:t>
            </a:r>
            <a:endParaRPr b="0" lang="en-US" sz="20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Doklady o kvalifikaci předkládají dodavatelé v nabídkách v kopiích a mohou je nahradit čestným prohlášením nebo jednotným evropským osvědčením pro veřejné zakázky. </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Zadavatel si může v průběhu zadávacího řízení vyžádat předložení originálů nebo úředně ověřených kopií dokladů o kvalifikaci.</a:t>
            </a:r>
            <a:endParaRPr b="0" lang="en-US" sz="1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Podlimitní a nadlimitní řízení</a:t>
            </a:r>
            <a:endParaRPr b="0" lang="en-US" sz="20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Kvalifikace se prokazuje doklady, které v zadávací dokumentaci požaduje zadavatel, který však musí přednostně vyžadovat doklady evidované v systému e-Certis.</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8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Doklady o splnění kvalifikace II</a:t>
            </a:r>
            <a:endParaRPr b="0" lang="en-US" sz="2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Pokud zadavatel nestanoví jinak, může dodavatel v nabídce nahradit předložení dokladů čestným prohlášením. Dodavatel může vždy nahradit požadované doklady jednotným evropským osvědčením pro veřejné zakázky – koncipováno jako právo dodavatele, zadavatel tedy nemůže takovouto možnost vyloučit.</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Před uzavřením smlouvy </a:t>
            </a:r>
            <a:r>
              <a:rPr b="0" lang="cs-CZ" sz="1800" spc="-1" strike="noStrike" u="sng">
                <a:solidFill>
                  <a:srgbClr val="7030a0"/>
                </a:solidFill>
                <a:uFillTx/>
                <a:latin typeface="Arial"/>
                <a:ea typeface="Arial"/>
              </a:rPr>
              <a:t>musí</a:t>
            </a:r>
            <a:r>
              <a:rPr b="0" lang="cs-CZ" sz="1800" spc="-1" strike="noStrike">
                <a:solidFill>
                  <a:srgbClr val="7030a0"/>
                </a:solidFill>
                <a:latin typeface="Arial"/>
                <a:ea typeface="Arial"/>
              </a:rPr>
              <a:t> zadavatel vyžadovat od vybraného dodavatele předložení originálů nebo ověřených kopií dokladů o kvalifikaci (v jiném ustanovení zákona je dovětek, že se vyžadují jen v případě, kdy je zadavatel již nemá k dispozici – mírný rozpor) </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Zadavatel před podpisem smlouvy musí požadovat doklady o majetkové struktuře dodavatele až po jeho skutečné majitele podle zákona o některých opatřeních proti legalizaci výnosů z trestné činnosti a financování terorismu.</a:t>
            </a:r>
            <a:endParaRPr b="0" lang="en-US" sz="1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Doklady prokazující základní způsobilost a výpis z OR musí prokazovat splnění požadovaného kritéria způsobilosti nejpozději v době 3 měsíců přede dnem zahájení zadávacího řízení.</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8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Doklady o splnění kvalifikace II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Obecně pak platí k předložení dokladu (nyní § 45), tedy i ke kvalifikaci, že </a:t>
            </a:r>
            <a:endParaRPr b="0" lang="en-US" sz="20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Pokud zadavatel vyžaduje předložení dokladu a dodavatel není z důvodů, které mu nelze přičítat, schopen předložit požadovaný doklad, je oprávněn předložit jiný rovnocenný doklad.</a:t>
            </a:r>
            <a:endParaRPr b="0" lang="en-US" sz="1800" spc="-1" strike="noStrike">
              <a:solidFill>
                <a:srgbClr val="000000"/>
              </a:solidFill>
              <a:latin typeface="Arial"/>
            </a:endParaRPr>
          </a:p>
          <a:p>
            <a:pPr lvl="1" marL="743040" indent="-285840" algn="just">
              <a:lnSpc>
                <a:spcPct val="100000"/>
              </a:lnSpc>
              <a:spcBef>
                <a:spcPts val="4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7030a0"/>
                </a:solidFill>
                <a:latin typeface="Arial"/>
                <a:ea typeface="Arial"/>
              </a:rPr>
              <a:t>Povinnost předložit doklad může dodavatel splnit odkazem na odpovídající informace vedené v informačním systému veřejné správy nebo v obdobném systému vedeném v jiném členském státu EU.</a:t>
            </a:r>
            <a:endParaRPr b="0" lang="en-US" sz="1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Zadavatel může pro účely zajištění řádného průběhu zadávacího řízení požadovat, aby účastník zadávacího řízení v přiměřené lhůtě objasnil předložené doklady nebo doplnil další nebo chybějící doklady. Zadavatel může tuto žádost učinit opakovaně a může rovněž stanovenou lhůtu prodloužit nebo prominout její zmeškání. </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88" name="PlaceHolder 2"/>
          <p:cNvSpPr>
            <a:spLocks noGrp="1"/>
          </p:cNvSpPr>
          <p:nvPr>
            <p:ph type="subTitle"/>
          </p:nvPr>
        </p:nvSpPr>
        <p:spPr>
          <a:xfrm>
            <a:off x="324000" y="1196640"/>
            <a:ext cx="8640720" cy="5040360"/>
          </a:xfrm>
          <a:prstGeom prst="rect">
            <a:avLst/>
          </a:prstGeom>
          <a:noFill/>
          <a:ln w="0">
            <a:noFill/>
          </a:ln>
        </p:spPr>
        <p:txBody>
          <a:bodyPr anchor="t">
            <a:noAutofit/>
          </a:bodyPr>
          <a:p>
            <a:pPr marL="343080" indent="-343080"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Doplnění údajů týkajících se prokázání splnění podmínek účasti (tedy i kvalifikace) se za změnu nabídky nepovažují (změna nabídky je jinak zákonem zakázaná). Skutečnosti rozhodné pro posouzení splnění podmínek účasti mohou nastat i po uplynutí lhůty pro podání nabídek.</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91"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Posouzení kvalifikace I</a:t>
            </a:r>
            <a:endParaRPr b="0" lang="en-US" sz="2800" spc="-1" strike="noStrike">
              <a:solidFill>
                <a:srgbClr val="000000"/>
              </a:solidFill>
              <a:latin typeface="Arial"/>
            </a:endParaRPr>
          </a:p>
          <a:p>
            <a:pPr algn="just">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rPr>
              <a:t>Vybrat z účastníků lze pouze na základě </a:t>
            </a:r>
            <a:endParaRPr b="0" lang="en-US" sz="2000" spc="-1" strike="noStrike">
              <a:solidFill>
                <a:srgbClr val="000000"/>
              </a:solidFill>
              <a:latin typeface="Arial"/>
            </a:endParaRPr>
          </a:p>
          <a:p>
            <a:pPr lvl="3" marL="1600200" indent="-228600" algn="just">
              <a:lnSpc>
                <a:spcPct val="100000"/>
              </a:lnSpc>
              <a:spcBef>
                <a:spcPts val="451"/>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posouzení splnění podmínek účasti v zadávacím řízení, </a:t>
            </a:r>
            <a:endParaRPr b="0" lang="en-US" sz="1800" spc="-1" strike="noStrike">
              <a:solidFill>
                <a:srgbClr val="000000"/>
              </a:solidFill>
              <a:latin typeface="Arial"/>
            </a:endParaRPr>
          </a:p>
          <a:p>
            <a:pPr lvl="3" marL="1600200" indent="-228600" algn="just">
              <a:lnSpc>
                <a:spcPct val="100000"/>
              </a:lnSpc>
              <a:spcBef>
                <a:spcPts val="349"/>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Arial"/>
                <a:ea typeface="Arial"/>
              </a:rPr>
              <a:t>hodnocení nabídek</a:t>
            </a:r>
            <a:r>
              <a:rPr b="0" lang="en-US" sz="1400" spc="-1" strike="noStrike">
                <a:solidFill>
                  <a:srgbClr val="7030a0"/>
                </a:solidFill>
                <a:latin typeface="Arial"/>
                <a:ea typeface="Arial"/>
              </a:rPr>
              <a:t>.</a:t>
            </a:r>
            <a:endParaRPr b="0" lang="en-US" sz="1400" spc="-1" strike="noStrike">
              <a:solidFill>
                <a:srgbClr val="000000"/>
              </a:solidFill>
              <a:latin typeface="Arial"/>
            </a:endParaRPr>
          </a:p>
          <a:p>
            <a:pPr lvl="3" marL="16002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Je-li kvalifikace jednou z podmínek účasti, musí být v průběhu řízení posouzena.</a:t>
            </a:r>
            <a:endParaRPr b="0" lang="en-US" sz="2000" spc="-1" strike="noStrike">
              <a:solidFill>
                <a:srgbClr val="000000"/>
              </a:solidFill>
              <a:latin typeface="Arial"/>
            </a:endParaRPr>
          </a:p>
          <a:p>
            <a:pPr lvl="3" marL="1600200" indent="-228600" algn="just">
              <a:lnSpc>
                <a:spcPct val="100000"/>
              </a:lnSpc>
              <a:spcBef>
                <a:spcPts val="499"/>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Posouzení kvalifikace (obecně všech podmínek účasti) lze provést buď před hodnocením nabídek nebo po hodnocení. Je to na vůli zadavatele, přičemž ale u vybraného dodavatele musí zadavatel provést posouzení kvalifikace vždy.</a:t>
            </a:r>
            <a:endParaRPr b="0" lang="en-US" sz="2000" spc="-1" strike="noStrike">
              <a:solidFill>
                <a:srgbClr val="000000"/>
              </a:solidFill>
              <a:latin typeface="Arial"/>
            </a:endParaRPr>
          </a:p>
          <a:p>
            <a:pPr lvl="3" marL="1600200" indent="-228600" algn="just">
              <a:lnSpc>
                <a:spcPct val="100000"/>
              </a:lnSpc>
              <a:spcBef>
                <a:spcPts val="499"/>
              </a:spcBef>
              <a:buClr>
                <a:srgbClr val="7030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Z toho vyplývá, že u ostatních posuzovat nemusí?! Lze si tedy představit postup, kdy zadavatel nejprve vybere nejvhodnější nabídku dle kritérií hodnocení, posoudí pouze nabídku vybraného a pokud vše splní, tak jej vybere (toto potvrzuje důvodová zpráva k § 56).</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94"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7030a0"/>
                </a:solidFill>
                <a:latin typeface="Arial"/>
              </a:rPr>
              <a:t>Posouzení kvalifikace II</a:t>
            </a:r>
            <a:endParaRPr b="0" lang="en-US" sz="2800" spc="-1" strike="noStrike">
              <a:solidFill>
                <a:srgbClr val="000000"/>
              </a:solidFill>
              <a:latin typeface="Arial"/>
            </a:endParaRPr>
          </a:p>
          <a:p>
            <a:pPr lvl="3"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Nastal-li by stav, kdy s vybraným dodavatelem nebude možné uzavřít smlouvu, musí zadavatel posoudit dalšího v pořadí, který by se stal vybraným dodavatelem. Takto pojato by to značně ulehčilo procesní část zadávacího řízení.</a:t>
            </a:r>
            <a:endParaRPr b="0" lang="en-US" sz="2000" spc="-1" strike="noStrike">
              <a:solidFill>
                <a:srgbClr val="000000"/>
              </a:solidFill>
              <a:latin typeface="Arial"/>
            </a:endParaRPr>
          </a:p>
          <a:p>
            <a:pPr lvl="3"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Zadavatel může k posouzení kvalifikace ustanovit komisi (viz obecné právo v § 42 odstavec 1). Členové komise musí podepsat prohlášení o střetu zájmů (obdoba nepodjatosti). Úkony komise jsou posuzovány tak, jako by je činil zadavatel. Doporučení komise nezbavuje zadavatele odpovědnosti za dodržení zákona.</a:t>
            </a:r>
            <a:endParaRPr b="0" lang="en-US" sz="2000" spc="-1" strike="noStrike">
              <a:solidFill>
                <a:srgbClr val="000000"/>
              </a:solidFill>
              <a:latin typeface="Arial"/>
            </a:endParaRPr>
          </a:p>
          <a:p>
            <a:pPr lvl="3" marL="343080" indent="-343080" algn="just">
              <a:lnSpc>
                <a:spcPct val="100000"/>
              </a:lnSpc>
              <a:spcBef>
                <a:spcPts val="4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7030a0"/>
                </a:solidFill>
                <a:latin typeface="Arial"/>
                <a:ea typeface="Arial"/>
              </a:rPr>
              <a:t>Zákon nevyžaduje vyhotovit z posouzení kvalifikace specifický protokol, ale transparentnost procesu (§ 6 zákona) takový dokument vyžadovat bude.</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97"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hájení zadávacího řízení</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ávací řízení se zahajuje odesláním oznámení o zahájení zadávacího řízení k uveřejnění a ZPŘ se zahajuje uveřejněním na profilu zadavatele (v tomto případě může zadavatel i vyzvat vybrané dodavatele).</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ormulář se nepovažuje za odeslaný, pokud jej provozovatel Věstníku nepřijal k uveřejnění z důvodu nevyplnění povinných údajů nebo nedodržení stanovených formátů. Zadavatel musí být schopen prokázat datum odeslání formuláře k uveřejnění ve Věstníku.</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 nadlimitních zakázek nesmí být formulář uveřejněn ve Věstníku nebo na profilu zadavatele před uveřejněním v Úředním věstníku EU. Informace o zahájení zadávacího řízení (tedy kterékoliv zakázky) nesmí být uveřejněna na profilu zadavatele před uveřejněním formuláře ve Věstníku.</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I</a:t>
            </a:r>
            <a:endParaRPr b="0" lang="en-US" sz="28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ro podlimitní veřejné zakázky lze použít ZJPŘ.</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U veřejných zakázek na stavební práce lze ZJPŘ  použít jen  u podlimitních zakázek v rozsahu 6.000.000,- až 50.000.000,- Kč.</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JPŘ je dle zákona zadávacím řízením a musí plně respektovat zákonná ustanovení. Zahajuje se uveřejněním výzvy k podání nabídky na profilu zadavatele. Zadavatel má právo mimo toto uveřejnění vyzvat i některé dodavatele přímo, v takovém případě jich musí být nejméně 5.</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vinné náležitosti výzvy k podání nabídek jsou (viz příloha 6 k zákonu):</a:t>
            </a:r>
            <a:endParaRPr b="0" lang="en-US" sz="20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identifikační údaje zadavatele, </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70c0"/>
                </a:solidFill>
                <a:latin typeface="Arial"/>
                <a:ea typeface="Arial"/>
              </a:rPr>
              <a:t>údaje o přístupu k zadávací dokumentaci, </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lhůtu pro podání nabídek, </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způsob podání nabídek včetně informace o tom, v jakém jazyce mohou být podány, </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70c0"/>
                </a:solidFill>
                <a:latin typeface="Arial"/>
                <a:ea typeface="Arial"/>
              </a:rPr>
              <a:t>požadavky na prokázání kvalifikace včetně požadovaných dokladů, </a:t>
            </a:r>
            <a:endParaRPr b="0" lang="en-US" sz="1600" spc="-1" strike="noStrike">
              <a:solidFill>
                <a:srgbClr val="000000"/>
              </a:solidFill>
              <a:latin typeface="Arial"/>
            </a:endParaRPr>
          </a:p>
          <a:p>
            <a:pPr lvl="1" marL="800280" indent="-343080" algn="just">
              <a:lnSpc>
                <a:spcPct val="9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70c0"/>
                </a:solidFill>
                <a:latin typeface="Arial"/>
                <a:ea typeface="Arial"/>
              </a:rPr>
              <a:t>pravidla pro hodnocení nabídek podle § 115. </a:t>
            </a:r>
            <a:endParaRPr b="0" lang="en-US" sz="1600" spc="-1" strike="noStrike">
              <a:solidFill>
                <a:srgbClr val="000000"/>
              </a:solidFill>
              <a:latin typeface="Arial"/>
            </a:endParaRPr>
          </a:p>
        </p:txBody>
      </p:sp>
      <p:pic>
        <p:nvPicPr>
          <p:cNvPr id="9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0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hůty</a:t>
            </a:r>
            <a:endParaRPr b="0" lang="en-US" sz="24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le nového zákona se lhůta pro podání nabídek počítá pro podlimitní zakázky v pracovních dnech, pro nadlimitní v kalendářních dnech (?)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všechny veřejné zakázky zadávané ve Zjednodušeném podlimitním řízení platí jednotná minimální lhůta pro podání nabídek v délce 11 pracovních dnů. Počítá se ode dne zahájení zadávacího řízení ( v tomto případě ode dne uveřejnění výzvy k podání nabídek na profilu zadavatele).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0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hůty pro podlimitní VZ</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dlimitní veřejné zakázky mají stanoveny lhůty pro podání nabídek v otevřeném řízení: </a:t>
            </a:r>
            <a:endParaRPr b="0" lang="en-US" sz="2000" spc="-1" strike="noStrike">
              <a:solidFill>
                <a:srgbClr val="000000"/>
              </a:solidFill>
              <a:latin typeface="Arial"/>
            </a:endParaRPr>
          </a:p>
          <a:p>
            <a:pPr lvl="1"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15 pracovních dnů pro VZ na dodávky a na služby</a:t>
            </a:r>
            <a:endParaRPr b="0" lang="en-US" sz="1600" spc="-1" strike="noStrike">
              <a:solidFill>
                <a:srgbClr val="000000"/>
              </a:solidFill>
              <a:latin typeface="Arial"/>
            </a:endParaRPr>
          </a:p>
          <a:p>
            <a:pPr lvl="1"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20 pracovních dnů pro VZ na stavební práce</a:t>
            </a:r>
            <a:endParaRPr b="0" lang="en-US" sz="16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Podlimitní veřejné zakázky mají v užším řízení stanoveny lhůty:</a:t>
            </a:r>
            <a:endParaRPr b="0" lang="en-US" sz="20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15 pracovních dnů pro podání žádostí o účast</a:t>
            </a:r>
            <a:endParaRPr b="0" lang="en-US" sz="16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15 pracovních dnů pro podání nabídek</a:t>
            </a:r>
            <a:endParaRPr b="0" lang="en-US" sz="16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Lhůtu pro podání nabídek lze u podlimitní veřejné zakázky zkrátit nejvýše o 5 pracovních dnů v případě, že bylo uveřejněno předběžné oznámení</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ysvětlení ZD musí být uveřejněno nejpozději 4 pracovní dny před uplynutím lhůty pro podání nabídek a prohlídka místa plnění musí být nejpozději 5 pracovních dnů před podáním nabídek.</a:t>
            </a:r>
            <a:endParaRPr b="0" lang="en-US" sz="2000" spc="-1" strike="noStrike">
              <a:solidFill>
                <a:srgbClr val="000000"/>
              </a:solidFill>
              <a:latin typeface="Arial"/>
            </a:endParaRPr>
          </a:p>
          <a:p>
            <a:pPr lvl="1" marL="800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00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0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hůty pro nadlimitní VZ</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dlimitní veřejné zakázky mají stanoveny lhůty pro podání nabídek v otevřeném řízení: </a:t>
            </a:r>
            <a:endParaRPr b="0" lang="en-US" sz="2000" spc="-1" strike="noStrike">
              <a:solidFill>
                <a:srgbClr val="000000"/>
              </a:solidFill>
              <a:latin typeface="Arial"/>
            </a:endParaRPr>
          </a:p>
          <a:p>
            <a:pPr lvl="1"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30 dnů pro všechny VZ </a:t>
            </a:r>
            <a:endParaRPr b="0" lang="en-US" sz="16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Lhůtu pro podání nabídek u nadlimitní veřejné zakázky na stavební práce zkrátit nelze. U VZ na dodávky a služby zkrátit lze v případě, že bylo uveřejněno předběžné oznámení – zkrácení musí být tak, aby lhůta byla nejméně 15 dnů.</a:t>
            </a:r>
            <a:endParaRPr b="0" lang="en-US" sz="20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Naopak tuto lhůtu je nutné prodloužit</a:t>
            </a:r>
            <a:endParaRPr b="0" lang="en-US" sz="20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o 5 dnů, není-li umožněno podávat nabídky elektronicky</a:t>
            </a:r>
            <a:endParaRPr b="0" lang="en-US" sz="16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o 5 dnů, je-li zadávací dokumentace poskytována jinak než elektronicky </a:t>
            </a:r>
            <a:endParaRPr b="0" lang="en-US" sz="1600" spc="-1" strike="noStrike">
              <a:solidFill>
                <a:srgbClr val="000000"/>
              </a:solidFill>
              <a:latin typeface="Arial"/>
            </a:endParaRPr>
          </a:p>
          <a:p>
            <a:pPr lvl="1" marL="8002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 užším řízení jsou pro nadlimitní VZ lhůty</a:t>
            </a:r>
            <a:endParaRPr b="0" lang="en-US" sz="20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30 dnů pro podání žádosti o účast</a:t>
            </a:r>
            <a:endParaRPr b="0" lang="en-US" sz="1600" spc="-1" strike="noStrike">
              <a:solidFill>
                <a:srgbClr val="000000"/>
              </a:solidFill>
              <a:latin typeface="Arial"/>
            </a:endParaRPr>
          </a:p>
          <a:p>
            <a:pPr lvl="2" marL="8002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25 dnů pro podání nabídek</a:t>
            </a:r>
            <a:endParaRPr b="0" lang="en-US" sz="1600" spc="-1" strike="noStrike">
              <a:solidFill>
                <a:srgbClr val="000000"/>
              </a:solidFill>
              <a:latin typeface="Arial"/>
            </a:endParaRPr>
          </a:p>
          <a:p>
            <a:pPr lvl="2" marL="8002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0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hůty pro nadlimitní VZ</a:t>
            </a:r>
            <a:endParaRPr b="0" lang="en-US" sz="24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Pro veřejné zadavatele, kterými jsou státní příspěvkové organizace města či obce (územně samosprávné celky) či jiné osoby platí, že mohou lhůtu pro podání nabídek v užším řízení stanovit v délce 10 dnů (?) a ještě, pokud se dohodne se všemi účastníky ji lze zkrátit.</a:t>
            </a:r>
            <a:endParaRPr b="0" lang="en-US" sz="20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 užším řízení pak platí shodné podmínky pro nutné prodloužení lhůty pro podání nabídek.</a:t>
            </a:r>
            <a:endParaRPr b="0" lang="en-US" sz="20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Vysvětlení ZD musí být uveřejněno nejpozději 5 pracovních dnů před uplynutím lhůty pro podání nabídek a prohlídka místa plnění musí být nejpozději 10 pracovních dnů před podáním nabídek.</a:t>
            </a:r>
            <a:endParaRPr b="0" lang="en-US" sz="20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Pozor! Dle § 97 je nutné v případě prohlídky místa budoucího plnění VZ stanovit lhůtu pro podání nabídek tak, aby byla delší, než zákonné minimum.</a:t>
            </a:r>
            <a:endParaRPr b="0" lang="en-US" sz="2000" spc="-1" strike="noStrike">
              <a:solidFill>
                <a:srgbClr val="000000"/>
              </a:solidFill>
              <a:latin typeface="Arial"/>
            </a:endParaRPr>
          </a:p>
          <a:p>
            <a:pPr lvl="2" marL="45720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1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ání nabídek a otevírání obálek</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bídky se podávají v elektronické podobě nebo listinné podobě</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ždý dodavatel může podat pouze jednu nabídku. Dodavatel, který jinému prokazuje část kvalifikace, nemůže již podat sám v tomtéž zadávacím řízení nabídku (jinak bude vyloučen).</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bídka v listinné podobě musí být v uzavřené obálce označené názvem veřejné zakázky.</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ud nebyla nabídka zadavateli doručena ve lhůtě nebo způsobem stanoveným v zadávací dokumentaci, nepovažuje se za podanou a v průběhu zadávacího řízení se k ní nepřihlíží. Pozor – ZD musí vyřešit, co se s obálkou stane – může tam být jistota (záruční listin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znam podaných nabídek se již nevyhotovuje, ale je vhodnější ho pořídi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1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evírá buď zadavatel, nebo si k tomu určí komisi (ta již není ze zákona povinná – nemá stanovena žádná pravidl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častníci či jiné osoby určené zadavatelem mají právo být přítomni při otevírání s výjimkou otevírání, po němž následuje elektronická aukce – zde je bez přítomnosti.</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evírání bezodkladně (?) po uplynutí lhůty pro podání nabídek.</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mise či zadavatele při otevírání zkontroluje zda nabídka byla podána včas (proto je vhodný seznam podaných nabídek s časem doručení – podání) a sděluje cenu a ostatní číselně vyjádřitelná kritéria.</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či komise musí vyhotovit protokol s popisem všech nabídek a jejich kritérií.</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18"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odnocení nabídek</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ávací dokumentace musí obsahovat pravidla hodnocení</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ritéria hodnocení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etoda hodnocení</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áha či jiný matematický vztah mezi kritérii</a:t>
            </a:r>
            <a:endParaRPr b="0" lang="en-US" sz="1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ákon umožňuje použití kritérií kvality</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t</a:t>
            </a:r>
            <a:r>
              <a:rPr b="0" lang="en-US" sz="1800" spc="-1" strike="noStrike">
                <a:solidFill>
                  <a:srgbClr val="000000"/>
                </a:solidFill>
                <a:latin typeface="Arial"/>
                <a:ea typeface="Arial"/>
              </a:rPr>
              <a:t>echnická</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úroveň,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stetické nebo funkční vlastnosti,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živatelská přístupnost, </a:t>
            </a:r>
            <a:br>
              <a:rPr sz="1800"/>
            </a:br>
            <a:r>
              <a:rPr b="0" lang="en-US" sz="1800" spc="-1" strike="noStrike">
                <a:solidFill>
                  <a:srgbClr val="000000"/>
                </a:solidFill>
                <a:latin typeface="Arial"/>
                <a:ea typeface="Arial"/>
              </a:rPr>
              <a:t>sociální, environmentální nebo inovační aspekty,</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ganizace, kvalifikace nebo zkušenost osob, které se mají přímo podílet na plnění veřejné zakázky v případě, že na úroveň plnění má významný dopad kvalita těchto osob, </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21"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úroveň servisních služeb včetně technické pomoci, neb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dmínky a lhůta dodání nebo dokončení plnění.</a:t>
            </a:r>
            <a:endParaRPr b="0" lang="en-US" sz="1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 kvality musí být vymezena tak, aby podle nich nabídky mohly být porovnatelné a naplnění kritérií ověřitelné. Kritériem kvality nesmí být smluvní podmínky, jejichž účelem je utvrzení povinností dodavatele, nebo platební podmínky.</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 hodnocení lze ustavit komisi (tak jako doposud), ale není nutné. Pravidla pro komisi zákone neřeší.</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 hodnocení se pořídí písemná zpráva (obdoba dnešního postupu)</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53 ZPŘ hodnocení – reference – podle DZ mohu reference hodnotit (asi počet, čím více tím větší zkušenost dodavatele), V ZPŘ může zadavatele vymezit i jiná kritéria hodnocení „vztahujících se k osobě dodavatele nebo k předmětu veřejné zakázky“.</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24"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souzení nabídek</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ud pravidla pro průběh zadávacího řízení zákon nestanoví, určí je zadavatel v zadávacích podmínkách (musí dodržet § 6).</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ouzení podmínek účasti před hodnocením nebo po něm (tedy je možné nejprve vyhodnotit) – u vybraného musí posoudit vždy.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dobně i ostatní posouzení  - viz DZ k § 56, platí, že lze vyhodnotit a posoudit jen nabídku vybraného.</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adavatel může požadovat, aby účastník zadávacího řízení v přiměřené lhůtě objasnil nebo doplnil další nebo chybějící údaje či doklady. Zadavatel může tuto žádost učinit opakovaně a může rovněž stanovenou lhůtu prodloužit nebo prominout její zmeškání. </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27" name="PlaceHolder 2"/>
          <p:cNvSpPr>
            <a:spLocks noGrp="1"/>
          </p:cNvSpPr>
          <p:nvPr>
            <p:ph type="subTitle"/>
          </p:nvPr>
        </p:nvSpPr>
        <p:spPr>
          <a:xfrm>
            <a:off x="324000" y="1196640"/>
            <a:ext cx="8640720" cy="5040360"/>
          </a:xfrm>
          <a:prstGeom prst="rect">
            <a:avLst/>
          </a:prstGeom>
          <a:noFill/>
          <a:ln w="0">
            <a:noFill/>
          </a:ln>
        </p:spPr>
        <p:txBody>
          <a:bodyPr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 uplynutí lhůty pro podání nabídek nemůže být nabídka měněna. Nabídka však může být doplněna na základě žádosti zadavatele o údaje či doklady, </a:t>
            </a:r>
            <a:r>
              <a:rPr b="0" lang="cs-CZ" sz="2000" spc="-1" strike="noStrike" u="sng">
                <a:solidFill>
                  <a:srgbClr val="000000"/>
                </a:solidFill>
                <a:uFillTx/>
                <a:latin typeface="Arial"/>
              </a:rPr>
              <a:t>které nebudou hodnoceny podle kritérií hodnocení</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plnění údajů týkajících se prokázání splnění podmínek účasti se za změnu nabídky nepovažují.</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 objasnění nabídky se považuje i oprava položkového rozpočtu, pokud není dotčena celková nabídková cena nebo jiné kritérium hodnocení nabíde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 tedy umožněno zjednodušení administrativní náročnosti – posuzuje se jen vybraný – splní-li pak se uzavře smlouva, nesplní-li a ani neobjasní či nedoplní – vyloučí se a nově se vyhodnotí a pak se postup opakuj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může vyloučit účastníka zadávacího řízení, který je akciovou společností nebo má právní formu obdobnou akciové společnosti a nemá vydány </a:t>
            </a:r>
            <a:r>
              <a:rPr b="1" lang="cs-CZ" sz="2000" spc="-1" strike="noStrike" u="sng">
                <a:solidFill>
                  <a:srgbClr val="000000"/>
                </a:solidFill>
                <a:uFillTx/>
                <a:latin typeface="Arial"/>
              </a:rPr>
              <a:t>výlučně zaknihované akcie </a:t>
            </a:r>
            <a:r>
              <a:rPr b="1" lang="cs-CZ" sz="2000" spc="-1" strike="noStrike">
                <a:solidFill>
                  <a:srgbClr val="000000"/>
                </a:solidFill>
                <a:latin typeface="Arial"/>
              </a:rPr>
              <a:t>podle § 48 odstavec 9 vyloučit musí.</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II</a:t>
            </a:r>
            <a:endParaRPr b="0" lang="en-US" sz="28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 ZJPŘ se nesmí o nabídkách s dodavateli jednat. Podají nabídku a ta se beze změn hodnotí a nijak ji nelze upravit.</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avatel je povinen připravit zadávací dokumentaci a tu uveřejnit na profilu zadavatele (u stavebních zakázek i projekt a soupis), mimo profil zadavatele lze ZD předávat jen výjimečně. </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Lhůta pro podání nabídek musí být nejméně 11 pracovních dnů (ode dne zahájení řízení) Dnem zahájení je den uveřejnění na profilu. Pozor na přiměřenost (u zakázek, kde je hodně požadavků na dodavatele může být 11 pracovních dnů málo).</a:t>
            </a:r>
            <a:endParaRPr b="0" lang="en-US" sz="2000" spc="-1" strike="noStrike">
              <a:solidFill>
                <a:srgbClr val="000000"/>
              </a:solidFill>
              <a:latin typeface="Arial"/>
            </a:endParaRPr>
          </a:p>
          <a:p>
            <a:pPr algn="just">
              <a:lnSpc>
                <a:spcPct val="9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70c0"/>
                </a:solidFill>
                <a:latin typeface="Arial"/>
              </a:rPr>
              <a:t>ZD lze změnit nebo vysvětlit – postup je v zákoně. </a:t>
            </a:r>
            <a:r>
              <a:rPr b="0" lang="cs-CZ" sz="2000" spc="-1" strike="noStrike">
                <a:solidFill>
                  <a:srgbClr val="0070c0"/>
                </a:solidFill>
                <a:latin typeface="Arial"/>
              </a:rPr>
              <a:t>V obou případech je zadavatel povinen uveřejnit takové informace na profilu zadavatele nejméně 4 pracovní dny před uplynutím lhůty pro podání nabídek.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3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loučení dodavatele</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může vyloučit účastníka zadávacího řízení pouze z důvodů stanovených zákonem, a to kdykoliv v průběhu zadávacího řízení, a to zejména z důvodu, že </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nabídka účastníka zadávacího řízení obsahuje mimořádně nízkou nabídkovou cenu, která nebyla účastníkem zadávacího řízení zdůvodněna (za určitých okolností vyloučit musí)</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splňují zadávací podmínky nebo je účastník zadávacího řízení ve stanovené lhůtě nedoložil,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byly účastníkem zadávacího řízení objasněny nebo doplněny na základě výzvy podle § 46, nebo</a:t>
            </a:r>
            <a:endParaRPr b="0" lang="en-US" sz="1800" spc="-1" strike="noStrike">
              <a:solidFill>
                <a:srgbClr val="000000"/>
              </a:solidFill>
              <a:latin typeface="Arial"/>
            </a:endParaRPr>
          </a:p>
          <a:p>
            <a:pPr lvl="1" marL="743040" indent="-285840" algn="just">
              <a:lnSpc>
                <a:spcPct val="10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odpovídají skutečnosti a měly nebo mohou mít vliv na posouzení podmínek účasti nebo na naplnění kritérií hodnocení</a:t>
            </a:r>
            <a:r>
              <a:rPr b="0" lang="en-US" sz="1000" spc="-1" strike="noStrike">
                <a:solidFill>
                  <a:srgbClr val="000000"/>
                </a:solidFill>
                <a:latin typeface="Arial"/>
                <a:ea typeface="Arial"/>
              </a:rPr>
              <a:t>.</a:t>
            </a:r>
            <a:endParaRPr b="0" lang="en-US" sz="1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33" name="PlaceHolder 2"/>
          <p:cNvSpPr>
            <a:spLocks noGrp="1"/>
          </p:cNvSpPr>
          <p:nvPr>
            <p:ph type="subTitle"/>
          </p:nvPr>
        </p:nvSpPr>
        <p:spPr>
          <a:xfrm>
            <a:off x="324000" y="1196640"/>
            <a:ext cx="8640720" cy="5040360"/>
          </a:xfrm>
          <a:prstGeom prst="rect">
            <a:avLst/>
          </a:prstGeom>
          <a:noFill/>
          <a:ln w="0">
            <a:noFill/>
          </a:ln>
        </p:spPr>
        <p:txBody>
          <a:bodyPr anchor="t">
            <a:noAutofit/>
          </a:bodyPr>
          <a:p>
            <a:pPr lvl="1" marL="74304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který je akciovou společností nebo má právní formu obdobnou akciové společnosti a nemá vydány výlučně zaknihované akcie.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na základě věrohodných informací získá důvodné podezření, že účastník zadávacího řízení uzavřel s jinými osobami zakázanou dohodu podle jiného právního předpisu v souvislosti se zadávanou veřejnou zakázkou</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neuzavře v zákonné lhůtě smlouvu se zadavatelem, ač byl vybrán</a:t>
            </a:r>
            <a:endParaRPr b="0" lang="en-US" sz="18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musí vyloučit účastníka zadávacího řízení a to z důvodu, že </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kud v průběhu řízení dojde ke změně v kvalifikaci dodavatele a dodavatel do 5 dnů tuto skutečnost zadavateli neoznámí a do 10 dnů nepředloží nové doklady ke kvalifikaci (zde vyloučit musí)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neprokázal složení požadované jistoty nebo nezajistil jistotu po celou dobu trvání zadávací lhůty (pozor na délku platnosti záruční listiny v případě jakéhokoliv zákonného prodlení v procesu)</a:t>
            </a: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3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nenahradí poddodavatele, který podle zadávací dokumentace neprokázal základní a profesní způsobilost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podal více nabídek samostatně nebo je osobou která v tomtéž řízení prokazuje jinému dodavateli kvalifikaci</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davatel musí vyloučit účastníka zadávacího řízení a to z důvodu, že </a:t>
            </a:r>
            <a:endParaRPr b="0" lang="en-US" sz="1800" spc="-1" strike="noStrike">
              <a:solidFill>
                <a:srgbClr val="000000"/>
              </a:solidFill>
              <a:latin typeface="Arial"/>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Zadavatel může vyloučit dodavatele i z důvodů jeho nezpůsobilosti (viz současný § 48/5), ale to musí zadavatel prokázat, takže bude lépe tyto důvody nepoužívat.</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3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loučení vybraného dodavatele</a:t>
            </a:r>
            <a:endParaRPr b="0" lang="en-US" sz="24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musí vyloučit vybraného dodavatele, když</a:t>
            </a:r>
            <a:endParaRPr b="0" lang="en-US" sz="20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splňují zadávací podmínky nebo je účastník zadávacího řízení ve stanovené lhůtě nedoložil,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byly účastníkem zadávacího řízení objasněny nebo doplněny na základě výzvy podle § 46, neb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daje nebo doklady </a:t>
            </a:r>
            <a:r>
              <a:rPr b="0" lang="en-US" sz="1800" spc="-1" strike="noStrike">
                <a:solidFill>
                  <a:srgbClr val="000000"/>
                </a:solidFill>
                <a:latin typeface="Arial"/>
                <a:ea typeface="Arial"/>
              </a:rPr>
              <a:t>neodpovídají skutečnosti a měly nebo mohou mít vliv na posouzení podmínek účasti nebo na naplnění kritérií hodnocení.</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nění nabízené dodavatelem by vedlo k nedodržování povinností vyplývajících z předpisů práva životního prostředí, sociálních nebo pracovněprávních předpisů nebo kolektivních smluv vztahujících se k předmětu plnění veřejné zakázky,</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šlo ke střetu zájmů a jiné opatření k nápravě, kromě zrušení zadávacího řízení, není možné,</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4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šlo k narušení hospodářské soutěže předchozí účastí účastníka zadávacího řízení při přípravě zadávacího řízení, jiné opatření k nápravě není možné a účastník</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zadávacího</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řízení na výzvu zadavatele neprokázal, že k narušení hospodářské soutěže nedošlo,</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který je akciovou společností nebo má právní formu obdobnou akciové společnosti a nemá vydány výlučně zaknihované akcie </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odavatel nepředložil doklady požadované před uzavřením smlouvy</a:t>
            </a:r>
            <a:endParaRPr b="0" lang="en-US" sz="1800" spc="-1" strike="noStrike">
              <a:solidFill>
                <a:srgbClr val="000000"/>
              </a:solidFill>
              <a:latin typeface="Arial"/>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 dokladů předložených dodavatelem před uzavřením smlouvy vyplývá, že dodavatel byl ve střetu zájmů</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45"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Zadavatel u vybraného dodavatele ověří naplnění důvodu pro vyloučení (akcie) na základě informací vedených v obchodním rejstříku. Vybraného dodavatele se sídlem v zahraničí, který je akciovou společností nebo má právní formu obdobnou akciové společnosti, zadavatel požádá, aby v přiměřené lhůtě předložil písemné čestné prohlášení o tom, které osoby jsou vlastníky akcií, jejichž souhrnná jmenovitá hodnota přesahuje 10 % základního kapitálu účastníka zadávacího řízení, s uvedením zdroje, z něhož údaje o velikosti podílu akcionářů vychází.</a:t>
            </a:r>
            <a:endParaRPr b="0" lang="en-US" sz="2000" spc="-1" strike="noStrike">
              <a:solidFill>
                <a:srgbClr val="000000"/>
              </a:solidFill>
              <a:latin typeface="Arial"/>
            </a:endParaRPr>
          </a:p>
          <a:p>
            <a:pPr lvl="1"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ea typeface="Arial"/>
              </a:rPr>
              <a:t>Jakékoliv vyloučení musí být bezodkladně oznámeno dotčenému dodavateli včetně odůvodnění (V ZPŘ postačí uveřejnit na profilu, ale musí to být vyhrazeno v zadávací dokumentaci).</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48"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Procesní část</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mitky</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mitky se podávají do 11 pracovních dnů ode dne, kdy se dodavatel dozvěděl o porušení.</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mitky pro zadávacím podmínkám či proti kvalifikačním podmínkám v užším řízení do 5 pracovních dnů od uplynutí lhůty pro podání nabídek či pro podání žádostí.</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o námitkách rozhodně do 11 pracovních dnů ode dne doručení – vyhoví nebo odmítne.</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mítne-li zadavatel námitky, poučí dodavatele o možnosti podat návrh.</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51"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vrh se podává do 8 pracovních dnů ode dne, kdy dodavatel obdržel odmítnutí námitek  - jedenkrát obdrží i zadavatel.</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do 8 pracovních dnů od obdržení návrhu posílá na ÚOHS své vyjádření k návrhu.</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munikace s ÚOHS výhradně prostřednictvím datové schránky nebo datovou zprávou podepsanou uznávaným elektronickým podpisem.</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54"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Změna smlouvy na veřejnou zakázku</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ní-li v zákoně výslovně stanoveno jinak, nesmí zadavatel umožnit podstatnou změnu závazku ze smlouvy na veřejnou zakázku po dobu jeho trvání bez provedení nového zadávacího řízení.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Podstatnou změnou je: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umožnila účast jiných dodavatelů nebo by mohla ovlivnit výběr dodavatele v původním zadávacím řízení, pokud by zadávací podmínky původního zadávacího řízení odpovídaly této změně,</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měnila ekonomickou rovnováhu závazku ze smlouvy ve prospěch vybraného dodavatele, nebo</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vedla k významnému rozšíření rozsahu plnění veřejné zakázky.</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57"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Arial"/>
              </a:rPr>
              <a:t>Nepodstatná změna: např. změna stavbyvedoucího / jiná adresa / formální změny – uzavřít dodatek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Za podstatnou se nepovažuje vyhrazená změna (tedy výhrada v zadávacích podmínkách, při jejímž naplnění lze změnit buď cenu nebo jiné smluvní podmínky.</a:t>
            </a:r>
            <a:endParaRPr b="0" lang="en-US" sz="2000" spc="-1" strike="noStrike">
              <a:solidFill>
                <a:srgbClr val="000000"/>
              </a:solidFill>
              <a:latin typeface="Arial"/>
            </a:endParaRPr>
          </a:p>
          <a:p>
            <a:pPr>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Např. změna termínu / inflační doložka / změna dodavatele</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klad – vybraný dodavatel neplní smlouvu, ukončím smluvní vztah s ním a uzavřu smlouvu s druhým v pořadí z původní soutěže. Je to takto možné, při definici podmínek, jak se to provede a jaká bude nová cena za dokončení?</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klad – jak to bude s případnými změnami termínů plnění – dnes vnímány jako podstatná změna smlouvy</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98"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II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ři změně zadávací dokumentace je nutné přiměřeně prodlužovat lhůtu pro podání nabídek, a pokud změna může ovlivnit okruh přihlášených, tak o celou původní délku lhůty. Změnou ZD je i oprava či upřesnění soupisů stavebních prací.</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ro kvalifikaci dodavatelů lze použít i jiná, než zákonem stanovená kritéria (pozor na diskriminační charakter kritérií) a dodavatelé mohou v nabídkách požadované doklady nahradit čestným prohlášením.</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9"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60"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Za podstatnou změnu závazku ze smlouvy se nepovažuje změna, která nemění celkovou povahu veřejné zakázky a jejíž hodnota je </a:t>
            </a:r>
            <a:r>
              <a:rPr b="0" lang="en-US" sz="2000" spc="-1" strike="noStrike">
                <a:solidFill>
                  <a:srgbClr val="000000"/>
                </a:solidFill>
                <a:latin typeface="Arial"/>
              </a:rPr>
              <a:t>nižší</a:t>
            </a:r>
            <a:r>
              <a:rPr b="0" lang="cs-CZ" sz="2000" spc="-1" strike="noStrike">
                <a:solidFill>
                  <a:srgbClr val="000000"/>
                </a:solidFill>
                <a:latin typeface="Arial"/>
              </a:rPr>
              <a:t>,</a:t>
            </a:r>
            <a:r>
              <a:rPr b="0" lang="en-US" sz="2000" spc="-1" strike="noStrike">
                <a:solidFill>
                  <a:srgbClr val="000000"/>
                </a:solidFill>
                <a:latin typeface="Arial"/>
              </a:rPr>
              <a:t> než finanční limit pro nadlimitní veřejnou zakázku a</a:t>
            </a:r>
            <a:r>
              <a:rPr b="0" lang="cs-CZ" sz="2000" spc="-1" strike="noStrike">
                <a:solidFill>
                  <a:srgbClr val="000000"/>
                </a:solidFill>
                <a:latin typeface="Arial"/>
              </a:rPr>
              <a:t> současně nižší než 15 % původní hodnoty závazku ze smlouvy na veřejnou zakázku na stavební práce (tedy do hodnoty 15%  z ceny lze akceptovat vícepráce a uzavřít dodatek bez zadávacího řízení).</a:t>
            </a:r>
            <a:br>
              <a:rPr sz="2000"/>
            </a:br>
            <a:r>
              <a:rPr b="0" lang="cs-CZ" sz="2000" spc="-1" strike="noStrike">
                <a:solidFill>
                  <a:srgbClr val="ff0000"/>
                </a:solidFill>
                <a:latin typeface="Arial"/>
              </a:rPr>
              <a:t>Např. změny na stavbě, změna konstrukce, založení, materiálu,…</a:t>
            </a:r>
            <a:br>
              <a:rPr sz="2000"/>
            </a:br>
            <a:r>
              <a:rPr b="0" lang="cs-CZ" sz="2000" spc="-1" strike="noStrike">
                <a:solidFill>
                  <a:srgbClr val="ff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5) Za podstatnou změnu závazku ze smlouvy na veřejnou zakázku se nepovažují dodatečné stavební práce od dodavatele původní veřejné zakázky, které nebyly zahrnuty v původním závazku ze smlouvy na veřejnou zakázku a jejichž potřebu nemohl zadavatel jednající s náležitou péčí předvídat, pokud jsou </a:t>
            </a:r>
            <a:r>
              <a:rPr b="1" lang="cs-CZ" sz="2000" spc="-1" strike="noStrike">
                <a:solidFill>
                  <a:srgbClr val="000000"/>
                </a:solidFill>
                <a:latin typeface="Arial"/>
              </a:rPr>
              <a:t>nezbytné a změna v osobě dodavatele.</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1"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63"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není možná z ekonomických anebo technických důvodů spočívajících zejména v požadavcích na slučitelnost nebo interoperabilitu se stávajícím zařízením, službami nebo instalacemi pořízenými zadavatelem v původním zadávacím řízení,</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y způsobila zadavateli značné obtíže nebo výrazné zvýšení nákladů a</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enový nárůst nepřekročí 30 % původní hodnoty závazku; pokud bude provedeno více změn, je rozhodný součet cenových nárůstů všech těchto změ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Např.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 průběhu stavby – změna zakládání, nová konstrukce vzduchotechnika, příjezdová cesta, parkoviště – Nebylo v původní PD</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4"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66"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6)Za podstatnou změnu závazku ze smlouvy se nepovažuje změna </a:t>
            </a:r>
            <a:endParaRPr b="0" lang="en-US" sz="20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ejíž potřeba vznikla v důsledku okolností, které zadavatel jednající s náležitou péčí nemohl předvídat, přičemž dodatečné stavební práce, dodatečné služby nebo dodatečné dodávky vyplývající z této změny jsou nezbytné pro provedení původních stavebních prací nebo pro poskytnutí původních služeb či dodávek,</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nemění celkovou povahu veřejné zakázky a</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cenový nárůst nepřekročí 30 % původní hodnoty závazku; pokud bude provedeno více změn, je rozhodný součet cenových nárůstů všech těchto změn.</a:t>
            </a:r>
            <a:endParaRPr b="0" lang="en-US" sz="1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69"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Např. Vady PD / vady soupisu / nesoulad PD a soupisu /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ni v tomto případě není nutné dělat nové zadávací řízení, ale je nutné do 22 pracovních dnů od změny závazku       odeslat oznámení o změně k uveřejnění.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davatel musí vést evidenci změn a jejich vztah k podmínkám a limitům. Musí být schopen doložit dodržení zákona po všech změnách smlouvy.</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jmy: povaha veřejné zakázky / cenový nárůst / hodnota změny / - definice nebo příklad? </a:t>
            </a:r>
            <a:endParaRPr b="0"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72"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ěkujeme za pozornost.</a:t>
            </a:r>
            <a:endParaRPr b="0" lang="en-US" sz="32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3"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1"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IV</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řípadné vyloučení dodavatele lze uveřejňovat na profilu zadavatele  (je nutné si to vyhradit v ZD), pak je dnem doručení den uveřejnění</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adávací dokumentace musí obsahovat pravidla hodnocení, tj. kritéria a způsob hodnocení.</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ákon umožňuje v ZJPŘ hodnotit i kritéria kvality vztahující se k dodavateli, tedy reference, ale tuto zákonnou možnost je nutné používat velmi opatrně, pro její subjektivní charakter.</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V rámci podání nabídek ke změnám nedochází – každý dodavatel podává (může podat) pouze jednu nabídku. O formě nabídky (zatím nejčastěji listinná), rozhoduje zadavatel.</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okud nebyla nabídka zadavateli doručena ve lhůtě nebo způsobem stanoveným v zadávací dokumentaci, nepovažuje se za podanou a dál se k ní nepřihlíží. Pozor – ZD by měla vyřešit, co se s takovou obálkou stane – může tam být jistota (záruční listina).</a:t>
            </a:r>
            <a:endParaRPr b="0" lang="en-US" sz="2000" spc="-1" strike="noStrike">
              <a:solidFill>
                <a:srgbClr val="000000"/>
              </a:solidFill>
              <a:latin typeface="Arial"/>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V</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Otevírání obálek s nabídkami musí být bez zbytečného odkladu po uplynutí lhůty pro podání nabídek a mají právo se jej účastnit ti, co podali nabídku.</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Komise pro otevírání obálek nutná není (zákon ji neurčuje), ale je možná a doporučuje se v počtu alespoň tří členů.</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Přítomným osobám sdělí komise identifikační údaje účastníků zadávacího řízení a údaje z nabídek odpovídající číselně vyjádřitelným kritériím hodnocení. Při otevírání se kontroluje pouze zda nabídka byla podána ve lhůtě. </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O otevírání obálek s nabídkami se vyhotovuje písemný protokol, který musí obsahovat seznam nabídek, které byly otevřeny, spolu s čtenými hodnotami z nabídek.</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Je vhodné pořídit i prezenční listinu zúčastněných.</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90756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7" name="PlaceHolder 2"/>
          <p:cNvSpPr>
            <a:spLocks noGrp="1"/>
          </p:cNvSpPr>
          <p:nvPr>
            <p:ph type="subTitle"/>
          </p:nvPr>
        </p:nvSpPr>
        <p:spPr>
          <a:xfrm>
            <a:off x="324000" y="1196640"/>
            <a:ext cx="864072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70c0"/>
                </a:solidFill>
                <a:latin typeface="Arial"/>
              </a:rPr>
              <a:t>Zjednodušené podlimitní řízení (ZJPŘ) VI</a:t>
            </a:r>
            <a:endParaRPr b="0" lang="en-US" sz="28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Zákon umožňuje vyhodnotit nabídky bez jejich posouzení (vhodnější, rychlejší). Tedy ze všech podaných se vyhodnotí dle kritérií ta nejvhodnější nabídka a u ní se provede posouzení nabídky, tj. zda splnila všechny zadávací podmínky včetně kvalifikace.</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Komise pro hodnocení nutná ze zákona není, ale je vhodné ji ustavit. Pokud se tak zadavatel rozhodne je vhodné kopírovat současný stav, tedy nejméně 5 členů a jejich náhradníky (mohou být shodní s komisí pro otevírání) a zčásti by měly tyto osoby být odborně způsobilé. Před jednáním podepíší prohlášení o tom, že nejsou ve střetu zájmů.</a:t>
            </a:r>
            <a:endParaRPr b="0" lang="en-US" sz="2000" spc="-1" strike="noStrike">
              <a:solidFill>
                <a:srgbClr val="000000"/>
              </a:solidFill>
              <a:latin typeface="Arial"/>
            </a:endParaRPr>
          </a:p>
          <a:p>
            <a:pPr algn="just">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70c0"/>
                </a:solidFill>
                <a:latin typeface="Arial"/>
              </a:rPr>
              <a:t>Komise nebo zadavatel nabídky vyhodnotí a pořídí o tom zprávu.</a:t>
            </a:r>
            <a:endParaRPr b="0" lang="en-US" sz="2000" spc="-1" strike="noStrike">
              <a:solidFill>
                <a:srgbClr val="000000"/>
              </a:solidFill>
              <a:latin typeface="Arial"/>
            </a:endParaRPr>
          </a:p>
        </p:txBody>
      </p:sp>
      <p:pic>
        <p:nvPicPr>
          <p:cNvPr id="108" name="Obrázek 1" descr=""/>
          <p:cNvPicPr/>
          <p:nvPr/>
        </p:nvPicPr>
        <p:blipFill>
          <a:blip r:embed="rId1"/>
          <a:stretch/>
        </p:blipFill>
        <p:spPr>
          <a:xfrm>
            <a:off x="468360" y="333360"/>
            <a:ext cx="1008000" cy="3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3:22:15Z</dcterms:created>
  <dc:creator>Ing. Petr Vrbka</dc:creator>
  <dc:description/>
  <dc:language>en-US</dc:language>
  <cp:lastModifiedBy>uzivatel</cp:lastModifiedBy>
  <dcterms:modified xsi:type="dcterms:W3CDTF">2016-05-20T13:13:57Z</dcterms:modified>
  <cp:revision>256</cp:revision>
  <dc:subject/>
  <dc:title>ZMĚNY ZÁKONA O VEŘEJNÝCH ZAKÁZKÁCH</dc:title>
</cp:coreProperties>
</file>